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1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2952-243B-4BCD-BB9A-40EB126E7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70A7-7689-4F8C-A3FF-8AFA4905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AC03-1C14-448D-8885-885D0AB99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EEB6-2287-46C8-9F35-8C50C890D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F22A-F6D3-4CF1-A846-35A6A1869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A296-6C77-46B2-A6F1-EF9F2943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A15C-D6EE-40E1-BFAE-B0B56407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5576-6573-48A2-A35F-4C459B92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23DD-EDBC-4A27-A688-D0558771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0BDF-5E9E-49EA-8232-85284839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4D74-53E2-4B71-84F1-F72D644E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C037-796B-4B28-99FA-023473BF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F0185-BA4D-430F-B589-71CA7035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49B4-4A01-4D88-AC43-2554D889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062CC-D21D-430F-8460-0632C77A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9C638-B5E0-44DF-A463-6CF866561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CD2D-3D51-425C-A038-3E681ACC7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407B-4E6E-4140-9AF0-4045A84E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1803-D0CC-4246-B834-275F10B8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F318-7F04-4EAF-8059-051FAA96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A895-CD3C-4A03-A0E4-F4285A30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353F-72DA-4C2D-B412-D27ABEA7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70A1-4D51-4EA4-B4BD-60D0D457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4E05-D2C7-46BF-BDEB-02BE1A78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7307-88D5-4DBB-9D44-70F33F6BC78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7E20-2B7D-4BE6-A0F8-E51F2298E38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hyperlink" Target="file:///C:/Documents%20and%20Settings/Thiago/Desktop/Planejamento_2008/Plano%20de%20Projeto.xls" TargetMode="External"/><Relationship Id="rId12" Type="http://schemas.openxmlformats.org/officeDocument/2006/relationships/hyperlink" Target="file:///C:/Documents%20and%20Settings/Thiago/Desktop/Planejamento_2008/Planejamento_Global_Gastos.xls" TargetMode="External"/><Relationship Id="rId13" Type="http://schemas.openxmlformats.org/officeDocument/2006/relationships/hyperlink" Target="file:///C:/Documents%20and%20Settings/Thiago/Desktop/Planejamento_2008/Planejamento_Suprimentos.xls" TargetMode="External"/><Relationship Id="rId14" Type="http://schemas.openxmlformats.org/officeDocument/2006/relationships/hyperlink" Target="file:///C:/Documents%20and%20Settings/Thiago/Desktop/Planejamento_2008/Planejamento_Suprimentos.xls" TargetMode="External"/><Relationship Id="rId15" Type="http://schemas.openxmlformats.org/officeDocument/2006/relationships/hyperlink" Target="file:///C:/Documents%20and%20Settings/Thiago/Desktop/Planejamento_2008/Planejamento_Suprimentos.xls" TargetMode="External"/><Relationship Id="rId1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hyperlink" Target="file:///C:/Documents%20and%20Settings/Thiago/Desktop/Planejamento_2008/Setor%20Solicitante%20v04.xls" TargetMode="External"/><Relationship Id="rId1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wmf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wmf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203280" y="3715920"/>
            <a:ext cx="594036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Century Gothic"/>
              </a:rPr>
              <a:t>Sistema Estadual de Meio 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98920" y="2637000"/>
            <a:ext cx="374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600" spc="-1" strike="noStrike">
                <a:solidFill>
                  <a:srgbClr val="4d4d4d"/>
                </a:solidFill>
                <a:latin typeface="Arial"/>
              </a:rPr>
              <a:t>SISEM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2771640" y="638172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925800" y="6453360"/>
            <a:ext cx="790560" cy="225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218200" y="6364440"/>
            <a:ext cx="793800" cy="3492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6516720" y="6237360"/>
            <a:ext cx="863640" cy="4730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rot="5400000">
            <a:off x="5220000" y="2996280"/>
            <a:ext cx="287280" cy="289080"/>
          </a:xfrm>
          <a:prstGeom prst="rect">
            <a:avLst/>
          </a:prstGeom>
          <a:solidFill>
            <a:srgbClr val="6cb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4499280" y="2996280"/>
            <a:ext cx="287280" cy="289080"/>
          </a:xfrm>
          <a:prstGeom prst="rect">
            <a:avLst/>
          </a:prstGeom>
          <a:solidFill>
            <a:srgbClr val="346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3708720" y="2996280"/>
            <a:ext cx="287280" cy="289080"/>
          </a:xfrm>
          <a:prstGeom prst="rect">
            <a:avLst/>
          </a:prstGeom>
          <a:solidFill>
            <a:srgbClr val="815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0" y="4292640"/>
          <a:ext cx="9144000" cy="91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292640"/>
                    <a:ext cx="91440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547640" y="6308640"/>
          <a:ext cx="673200" cy="38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47640" y="630864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80880" y="152280"/>
            <a:ext cx="8382240" cy="243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629080" y="404640"/>
            <a:ext cx="3960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VISÃO: Tornar MG o melhor estado para se v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256200" y="836640"/>
            <a:ext cx="265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3399"/>
                </a:solidFill>
                <a:latin typeface="Arial"/>
              </a:rPr>
              <a:t>REULTADOS PARA A SOCIED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29080" y="1125360"/>
            <a:ext cx="792000" cy="648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421080" y="1125360"/>
            <a:ext cx="792000" cy="6480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13080" y="1125360"/>
            <a:ext cx="792360" cy="6480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05440" y="1125360"/>
            <a:ext cx="792000" cy="648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797440" y="1125360"/>
            <a:ext cx="792360" cy="64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55680" y="1125360"/>
            <a:ext cx="300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Á R E A S  D E  R E S U L T A D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629080" y="1774800"/>
            <a:ext cx="3960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OJETOS ESTRUTUR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476360" y="3789360"/>
            <a:ext cx="86364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ecret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844720" y="3789360"/>
            <a:ext cx="86364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ecret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213080" y="3789360"/>
            <a:ext cx="86364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ecret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580000" y="3789360"/>
            <a:ext cx="86364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ecret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48360" y="3789360"/>
            <a:ext cx="86364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ecret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76360" y="2205000"/>
            <a:ext cx="6264360" cy="216000"/>
          </a:xfrm>
          <a:prstGeom prst="rect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333399"/>
                </a:solidFill>
                <a:latin typeface="Arial"/>
              </a:rPr>
              <a:t>CADERNOS: Metas e estratégia de implementação (por Secreta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68360" y="189000"/>
            <a:ext cx="223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Estratégia Governament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PMDI - PP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95280" y="2708280"/>
            <a:ext cx="8353440" cy="2592360"/>
          </a:xfrm>
          <a:prstGeom prst="rect">
            <a:avLst/>
          </a:prstGeom>
          <a:noFill/>
          <a:ln w="1908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908000" y="4292640"/>
            <a:ext cx="0" cy="216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908000" y="2421000"/>
            <a:ext cx="0" cy="1368360"/>
          </a:xfrm>
          <a:prstGeom prst="line">
            <a:avLst/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276720" y="2421000"/>
            <a:ext cx="0" cy="1368360"/>
          </a:xfrm>
          <a:prstGeom prst="line">
            <a:avLst/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716360" y="2421000"/>
            <a:ext cx="0" cy="1368360"/>
          </a:xfrm>
          <a:prstGeom prst="line">
            <a:avLst/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012000" y="2421000"/>
            <a:ext cx="0" cy="1368360"/>
          </a:xfrm>
          <a:prstGeom prst="line">
            <a:avLst/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380360" y="2421000"/>
            <a:ext cx="0" cy="1368360"/>
          </a:xfrm>
          <a:prstGeom prst="line">
            <a:avLst/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68360" y="2717640"/>
            <a:ext cx="201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cc3300"/>
                </a:solidFill>
                <a:latin typeface="Arial"/>
              </a:rPr>
              <a:t>Estrutura Governamental e Modelo de gestã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140360" y="2852640"/>
            <a:ext cx="863280" cy="360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OV/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050920" y="3573360"/>
            <a:ext cx="21744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417840" y="3573360"/>
            <a:ext cx="21744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786200" y="3573360"/>
            <a:ext cx="21744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156360" y="3573360"/>
            <a:ext cx="21744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524720" y="3573360"/>
            <a:ext cx="21744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425840" y="3214800"/>
            <a:ext cx="290520" cy="358560"/>
          </a:xfrm>
          <a:prstGeom prst="downArrow">
            <a:avLst>
              <a:gd name="adj1" fmla="val 50000"/>
              <a:gd name="adj2" fmla="val 30855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133720" y="3581280"/>
            <a:ext cx="554328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451640" y="3141720"/>
            <a:ext cx="169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cc3300"/>
                </a:solidFill>
                <a:latin typeface="Arial"/>
              </a:rPr>
              <a:t>AR – 1ª Eta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cc3300"/>
                </a:solidFill>
                <a:latin typeface="Arial"/>
              </a:rPr>
              <a:t>Sistema Opera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972560" y="4149720"/>
            <a:ext cx="117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cc3300"/>
                </a:solidFill>
                <a:latin typeface="Arial"/>
              </a:rPr>
              <a:t>AR – 2ª Eta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2268360" y="5170320"/>
            <a:ext cx="5040" cy="4194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635280" y="5013360"/>
            <a:ext cx="0" cy="5763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76720" y="5013360"/>
            <a:ext cx="0" cy="5763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372360" y="5013360"/>
            <a:ext cx="0" cy="5763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596360" y="5013360"/>
            <a:ext cx="0" cy="57636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020000" y="4508640"/>
            <a:ext cx="1008000" cy="792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Equipes 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Secretaria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unidad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vinculada e </a:t>
            </a:r>
            <a:br>
              <a:rPr sz="1000"/>
            </a:b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subordinad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724360" y="4508640"/>
            <a:ext cx="1008360" cy="792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Equipes 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Secretaria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unidad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vinculada e </a:t>
            </a:r>
            <a:br>
              <a:rPr sz="1000"/>
            </a:b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subordinad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284720" y="4508640"/>
            <a:ext cx="1008000" cy="792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Equipes 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Secretaria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unidad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vinculada e </a:t>
            </a:r>
            <a:br>
              <a:rPr sz="1000"/>
            </a:b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subordinad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843280" y="4508640"/>
            <a:ext cx="1008000" cy="792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Equipes 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Secretaria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unidad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vinculada e </a:t>
            </a:r>
            <a:br>
              <a:rPr sz="1000"/>
            </a:b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subordinad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476360" y="4508640"/>
            <a:ext cx="1008000" cy="792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Equipes 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Secretaria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unidad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vinculada e </a:t>
            </a:r>
            <a:br>
              <a:rPr sz="1000"/>
            </a:b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subordinad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76720" y="4292640"/>
            <a:ext cx="0" cy="216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716360" y="4292640"/>
            <a:ext cx="0" cy="216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451640" y="4292640"/>
            <a:ext cx="0" cy="216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7920"/>
            <a:ext cx="9144000" cy="6858000"/>
          </a:xfrm>
          <a:prstGeom prst="rect">
            <a:avLst/>
          </a:prstGeom>
          <a:solidFill>
            <a:srgbClr val="cccc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881360" y="2595600"/>
            <a:ext cx="6913440" cy="1120680"/>
          </a:xfrm>
          <a:solidFill>
            <a:srgbClr val="339933"/>
          </a:solidFill>
          <a:ln w="7632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Gestão de Pesso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Avaliação de Desempenho Individ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95280" y="5445000"/>
            <a:ext cx="8353440" cy="1224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1403280" y="5942160"/>
            <a:ext cx="936720" cy="29520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2771640" y="5942160"/>
            <a:ext cx="936720" cy="2952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4282920" y="5942160"/>
            <a:ext cx="936720" cy="29520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4"/>
          <a:stretch/>
        </p:blipFill>
        <p:spPr>
          <a:xfrm>
            <a:off x="5796000" y="5934240"/>
            <a:ext cx="936720" cy="2952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5"/>
          <a:stretch/>
        </p:blipFill>
        <p:spPr>
          <a:xfrm>
            <a:off x="7091280" y="5942160"/>
            <a:ext cx="936720" cy="2952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395280" y="5452920"/>
            <a:ext cx="201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6600"/>
                </a:solidFill>
                <a:latin typeface="Arial"/>
              </a:rPr>
              <a:t>Gestão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6600"/>
                </a:solidFill>
                <a:latin typeface="Arial"/>
              </a:rPr>
              <a:t>Pesso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6600"/>
                </a:solidFill>
                <a:latin typeface="Arial"/>
              </a:rPr>
              <a:t>ADI 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6600"/>
                </a:solidFill>
                <a:latin typeface="Arial"/>
              </a:rPr>
              <a:t>Prêm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476360" y="6237360"/>
            <a:ext cx="1295280" cy="2872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Metas por equ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908000" y="5589720"/>
            <a:ext cx="719280" cy="21564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PRÊM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76720" y="5589720"/>
            <a:ext cx="718920" cy="21564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PRÊM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716360" y="5589720"/>
            <a:ext cx="719280" cy="21564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PRÊM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229440" y="5589720"/>
            <a:ext cx="718920" cy="21564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PRÊM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524720" y="5589720"/>
            <a:ext cx="719280" cy="21564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PRÊM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2484360" y="5805360"/>
            <a:ext cx="0" cy="50328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3851280" y="5805360"/>
            <a:ext cx="0" cy="50328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5364000" y="5805360"/>
            <a:ext cx="0" cy="50328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6804000" y="5805360"/>
            <a:ext cx="0" cy="50328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8172360" y="5805360"/>
            <a:ext cx="0" cy="50328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989440" y="6237360"/>
            <a:ext cx="1295280" cy="2872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Metas por equ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00720" y="6237360"/>
            <a:ext cx="1295280" cy="2872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Metas por equ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013440" y="6237360"/>
            <a:ext cx="1295280" cy="2872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Metas por equ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453440" y="6237360"/>
            <a:ext cx="1295280" cy="2872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Metas por equ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382560" y="3068280"/>
            <a:ext cx="576108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Century Gothic"/>
              </a:rPr>
              <a:t>Data: 18.02.08</a:t>
            </a:r>
            <a:r>
              <a:rPr b="0" lang="pt-BR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pt-BR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pt-BR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pt-BR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pt-BR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pt-BR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pt-BR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03280" y="404640"/>
            <a:ext cx="831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d4d4d"/>
                </a:solidFill>
                <a:latin typeface="Century Gothic"/>
              </a:rPr>
              <a:t>Fluxograma de Atualização das Informações dos Projetos e Solicitação de Recur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2773440" y="6381720"/>
            <a:ext cx="718920" cy="29700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3924360" y="6453360"/>
            <a:ext cx="792000" cy="22536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5219640" y="6364440"/>
            <a:ext cx="792360" cy="3492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6516720" y="6245280"/>
            <a:ext cx="863640" cy="47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8" name=""/>
          <p:cNvGraphicFramePr/>
          <p:nvPr/>
        </p:nvGraphicFramePr>
        <p:xfrm>
          <a:off x="0" y="2654280"/>
          <a:ext cx="9144000" cy="91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654280"/>
                    <a:ext cx="91440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1547640" y="6308640"/>
          <a:ext cx="673200" cy="38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47640" y="630864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6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8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"/>
          <p:cNvSpPr/>
          <p:nvPr/>
        </p:nvSpPr>
        <p:spPr>
          <a:xfrm>
            <a:off x="324000" y="1706400"/>
            <a:ext cx="82803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etende-se com a proposta a ser apresentad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lhorar o fluxo de informações sobre os projetos em andamento no SISEM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abelecer uma linha única de solicitaçõ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lhorar a qualidade do gasto, demonstrando de maneira clara o objetivo de cada aquisição e solicitação de orça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24000" y="90792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Objetivos</a:t>
            </a: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8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4" name=""/>
          <p:cNvSpPr/>
          <p:nvPr/>
        </p:nvSpPr>
        <p:spPr>
          <a:xfrm>
            <a:off x="324000" y="1706400"/>
            <a:ext cx="8280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Planejamento de 2008 inicia-se com o preenchimento de três documentos: 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Plano de Projetos Resumido (Associados)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o Planejamento Global de Gast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Planejamento de Suprimentos (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estruturadores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)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pós o preenchimento destes documentos, inicia-se a </a:t>
            </a:r>
            <a:r>
              <a:rPr b="1" lang="pt-BR" sz="2800" spc="-1" strike="noStrike">
                <a:solidFill>
                  <a:srgbClr val="cc3300"/>
                </a:solidFill>
                <a:latin typeface="Arial"/>
              </a:rPr>
              <a:t>rotina de solicitações e monitoramento das meta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24000" y="90792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Fluxograma</a:t>
            </a: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0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6" name=""/>
          <p:cNvSpPr/>
          <p:nvPr/>
        </p:nvSpPr>
        <p:spPr>
          <a:xfrm>
            <a:off x="179280" y="1557360"/>
            <a:ext cx="878544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 solicitações de informação sobre os projetos e as solicitações financeiras deverão ser enviadas à Sup. Planejamento </a:t>
            </a:r>
            <a:r>
              <a:rPr b="1" lang="pt-BR" sz="2800" spc="-1" strike="noStrike">
                <a:solidFill>
                  <a:srgbClr val="cc3300"/>
                </a:solidFill>
                <a:latin typeface="Arial"/>
              </a:rPr>
              <a:t>até o quinto dia útil de cada mê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pt-BR" sz="2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(RELATÓRIO SITUAÇÃ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não preenchimento da planilha ou atraso na entreg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poderá causar o atraso em processos de compra e na liberação de orçamento para </a:t>
            </a: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adiantament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Responsáveis pelas ações passam a ser os </a:t>
            </a:r>
            <a:r>
              <a:rPr b="1" lang="pt-BR" sz="2800" spc="-1" strike="noStrike">
                <a:solidFill>
                  <a:srgbClr val="cc3300"/>
                </a:solidFill>
                <a:latin typeface="Arial"/>
              </a:rPr>
              <a:t>ORDENADORES DE DESPES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as mes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24000" y="90792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Observa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2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4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6" name=""/>
          <p:cNvSpPr/>
          <p:nvPr/>
        </p:nvSpPr>
        <p:spPr>
          <a:xfrm>
            <a:off x="682560" y="40176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Fluxo Mensal</a:t>
            </a: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108000" y="981000"/>
            <a:ext cx="2663640" cy="897120"/>
            <a:chOff x="108000" y="981000"/>
            <a:chExt cx="2663640" cy="897120"/>
          </a:xfrm>
        </p:grpSpPr>
        <p:pic>
          <p:nvPicPr>
            <p:cNvPr id="438" name="" descr=""/>
            <p:cNvPicPr/>
            <p:nvPr/>
          </p:nvPicPr>
          <p:blipFill>
            <a:blip r:embed="rId9"/>
            <a:stretch/>
          </p:blipFill>
          <p:spPr>
            <a:xfrm rot="5400000">
              <a:off x="1151280" y="-62280"/>
              <a:ext cx="505080" cy="25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108000" y="1052640"/>
              <a:ext cx="2663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Cookie"/>
                </a:rPr>
                <a:t>Setor Solicita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324000" y="3732120"/>
            <a:ext cx="1828800" cy="1484280"/>
          </a:xfrm>
          <a:prstGeom prst="rect">
            <a:avLst/>
          </a:prstGeom>
          <a:gradFill rotWithShape="0">
            <a:gsLst>
              <a:gs pos="0">
                <a:srgbClr val="9bcc9b"/>
              </a:gs>
              <a:gs pos="50000">
                <a:srgbClr val="339933"/>
              </a:gs>
              <a:gs pos="100000">
                <a:srgbClr val="9bcc9b"/>
              </a:gs>
            </a:gsLst>
            <a:lin ang="13500000"/>
          </a:gra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Preenche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Planilha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Contro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Orç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4000" y="2263680"/>
            <a:ext cx="1828800" cy="935280"/>
          </a:xfrm>
          <a:prstGeom prst="rect">
            <a:avLst/>
          </a:prstGeom>
          <a:gradFill rotWithShape="0">
            <a:gsLst>
              <a:gs pos="0">
                <a:srgbClr val="9bcc9b"/>
              </a:gs>
              <a:gs pos="50000">
                <a:srgbClr val="339933"/>
              </a:gs>
              <a:gs pos="100000">
                <a:srgbClr val="9bcc9b"/>
              </a:gs>
            </a:gsLst>
            <a:lin ang="13500000"/>
          </a:gra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Preenc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o Formulár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de Solicit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216080" y="3228840"/>
            <a:ext cx="0" cy="505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244520" y="5202360"/>
            <a:ext cx="0" cy="504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2916360" y="981000"/>
            <a:ext cx="2663640" cy="531360"/>
            <a:chOff x="2916360" y="981000"/>
            <a:chExt cx="2663640" cy="531360"/>
          </a:xfrm>
        </p:grpSpPr>
        <p:pic>
          <p:nvPicPr>
            <p:cNvPr id="445" name="" descr=""/>
            <p:cNvPicPr/>
            <p:nvPr/>
          </p:nvPicPr>
          <p:blipFill>
            <a:blip r:embed="rId10"/>
            <a:stretch/>
          </p:blipFill>
          <p:spPr>
            <a:xfrm rot="5400000">
              <a:off x="3959640" y="-62280"/>
              <a:ext cx="505080" cy="25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2916360" y="1052640"/>
              <a:ext cx="26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Cookie"/>
                </a:rPr>
                <a:t>SUP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3132000" y="3732120"/>
            <a:ext cx="1828800" cy="1052640"/>
          </a:xfrm>
          <a:prstGeom prst="rect">
            <a:avLst/>
          </a:prstGeom>
          <a:gradFill rotWithShape="0">
            <a:gsLst>
              <a:gs pos="0">
                <a:srgbClr val="9bcc9b"/>
              </a:gs>
              <a:gs pos="50000">
                <a:srgbClr val="339933"/>
              </a:gs>
              <a:gs pos="100000">
                <a:srgbClr val="9bcc9b"/>
              </a:gs>
            </a:gsLst>
            <a:lin ang="13500000"/>
          </a:gra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Valida com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program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An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132000" y="2263680"/>
            <a:ext cx="2160720" cy="935280"/>
          </a:xfrm>
          <a:prstGeom prst="rect">
            <a:avLst/>
          </a:prstGeom>
          <a:gradFill rotWithShape="0">
            <a:gsLst>
              <a:gs pos="0">
                <a:srgbClr val="9bcc9b"/>
              </a:gs>
              <a:gs pos="50000">
                <a:srgbClr val="339933"/>
              </a:gs>
              <a:gs pos="100000">
                <a:srgbClr val="9bcc9b"/>
              </a:gs>
            </a:gsLst>
            <a:lin ang="13500000"/>
          </a:gra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Verif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document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receb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024440" y="3228840"/>
            <a:ext cx="0" cy="505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916360" y="5288040"/>
            <a:ext cx="2519280" cy="1297080"/>
          </a:xfrm>
          <a:prstGeom prst="rect">
            <a:avLst/>
          </a:prstGeom>
          <a:gradFill rotWithShape="0">
            <a:gsLst>
              <a:gs pos="0">
                <a:srgbClr val="9bcc9b"/>
              </a:gs>
              <a:gs pos="50000">
                <a:srgbClr val="339933"/>
              </a:gs>
              <a:gs pos="100000">
                <a:srgbClr val="9bcc9b"/>
              </a:gs>
            </a:gsLst>
            <a:lin ang="13500000"/>
          </a:gra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Encaminha pa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a SURL (compra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ou SUC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(diárias e convêni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052880" y="4784760"/>
            <a:ext cx="0" cy="504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771640" y="1989000"/>
            <a:ext cx="0" cy="4869000"/>
          </a:xfrm>
          <a:prstGeom prst="line">
            <a:avLst/>
          </a:prstGeom>
          <a:ln w="19080">
            <a:solidFill>
              <a:srgbClr val="808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54" idx="3"/>
            <a:endCxn id="448" idx="1"/>
          </p:cNvCxnSpPr>
          <p:nvPr/>
        </p:nvCxnSpPr>
        <p:spPr>
          <a:xfrm flipV="1">
            <a:off x="2499840" y="2731680"/>
            <a:ext cx="632520" cy="3471120"/>
          </a:xfrm>
          <a:prstGeom prst="bentConnector3">
            <a:avLst>
              <a:gd name="adj1" fmla="val 27619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"/>
          <p:cNvCxnSpPr>
            <a:stCxn id="450" idx="3"/>
            <a:endCxn id="456" idx="1"/>
          </p:cNvCxnSpPr>
          <p:nvPr/>
        </p:nvCxnSpPr>
        <p:spPr>
          <a:xfrm flipV="1">
            <a:off x="5435280" y="2457000"/>
            <a:ext cx="649800" cy="3480480"/>
          </a:xfrm>
          <a:prstGeom prst="bentConnector3">
            <a:avLst>
              <a:gd name="adj1" fmla="val 498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57" name=""/>
          <p:cNvGrpSpPr/>
          <p:nvPr/>
        </p:nvGrpSpPr>
        <p:grpSpPr>
          <a:xfrm>
            <a:off x="5869080" y="981000"/>
            <a:ext cx="2663640" cy="531360"/>
            <a:chOff x="5869080" y="981000"/>
            <a:chExt cx="2663640" cy="531360"/>
          </a:xfrm>
        </p:grpSpPr>
        <p:pic>
          <p:nvPicPr>
            <p:cNvPr id="458" name="" descr=""/>
            <p:cNvPicPr/>
            <p:nvPr/>
          </p:nvPicPr>
          <p:blipFill>
            <a:blip r:embed="rId11"/>
            <a:stretch/>
          </p:blipFill>
          <p:spPr>
            <a:xfrm rot="5400000">
              <a:off x="6912360" y="-62280"/>
              <a:ext cx="505080" cy="25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"/>
            <p:cNvSpPr/>
            <p:nvPr/>
          </p:nvSpPr>
          <p:spPr>
            <a:xfrm>
              <a:off x="5869080" y="1052640"/>
              <a:ext cx="26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Cookie"/>
                </a:rPr>
                <a:t>SUR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6084720" y="1989000"/>
            <a:ext cx="2160720" cy="935280"/>
          </a:xfrm>
          <a:prstGeom prst="rect">
            <a:avLst/>
          </a:prstGeom>
          <a:gradFill rotWithShape="0">
            <a:gsLst>
              <a:gs pos="0">
                <a:srgbClr val="9bcc9b"/>
              </a:gs>
              <a:gs pos="50000">
                <a:srgbClr val="339933"/>
              </a:gs>
              <a:gs pos="100000">
                <a:srgbClr val="9bcc9b"/>
              </a:gs>
            </a:gsLst>
            <a:lin ang="13500000"/>
          </a:gra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Check-Li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document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receb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651640" y="1916280"/>
            <a:ext cx="0" cy="4941720"/>
          </a:xfrm>
          <a:prstGeom prst="line">
            <a:avLst/>
          </a:prstGeom>
          <a:ln w="19080">
            <a:solidFill>
              <a:srgbClr val="808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012000" y="3884760"/>
            <a:ext cx="2447640" cy="360360"/>
          </a:xfrm>
          <a:prstGeom prst="rect">
            <a:avLst/>
          </a:prstGeom>
          <a:gradFill rotWithShape="0">
            <a:gsLst>
              <a:gs pos="0">
                <a:srgbClr val="9bcc9b"/>
              </a:gs>
              <a:gs pos="50000">
                <a:srgbClr val="339933"/>
              </a:gs>
              <a:gs pos="100000">
                <a:srgbClr val="9bcc9b"/>
              </a:gs>
            </a:gsLst>
            <a:lin ang="13500000"/>
          </a:gra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Monta o Proce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164360" y="292428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940000" y="3213000"/>
            <a:ext cx="2664360" cy="531360"/>
            <a:chOff x="5940000" y="3213000"/>
            <a:chExt cx="2664360" cy="531360"/>
          </a:xfrm>
        </p:grpSpPr>
        <p:pic>
          <p:nvPicPr>
            <p:cNvPr id="464" name="" descr=""/>
            <p:cNvPicPr/>
            <p:nvPr/>
          </p:nvPicPr>
          <p:blipFill>
            <a:blip r:embed="rId12"/>
            <a:stretch/>
          </p:blipFill>
          <p:spPr>
            <a:xfrm rot="5400000">
              <a:off x="6983640" y="2169000"/>
              <a:ext cx="505080" cy="25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>
              <a:off x="5940360" y="3284640"/>
              <a:ext cx="26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Cookie"/>
                </a:rPr>
                <a:t>COG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1238040" y="1483560"/>
            <a:ext cx="5997960" cy="779760"/>
            <a:chOff x="1238040" y="1483560"/>
            <a:chExt cx="5997960" cy="779760"/>
          </a:xfrm>
        </p:grpSpPr>
        <p:sp>
          <p:nvSpPr>
            <p:cNvPr id="467" name=""/>
            <p:cNvSpPr/>
            <p:nvPr/>
          </p:nvSpPr>
          <p:spPr>
            <a:xfrm>
              <a:off x="1403280" y="1483560"/>
              <a:ext cx="583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Em caso de Falta de Documento Retorna ao Solicita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8" name=""/>
            <p:cNvCxnSpPr>
              <a:stCxn id="441" idx="0"/>
              <a:endCxn id="456" idx="0"/>
            </p:cNvCxnSpPr>
            <p:nvPr/>
          </p:nvCxnSpPr>
          <p:spPr>
            <a:xfrm flipH="1" flipV="1" rot="5400000">
              <a:off x="4064400" y="-838080"/>
              <a:ext cx="275400" cy="5928120"/>
            </a:xfrm>
            <a:prstGeom prst="bentConnector3">
              <a:avLst>
                <a:gd name="adj1" fmla="val 176832"/>
              </a:avLst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469" name=""/>
          <p:cNvSpPr/>
          <p:nvPr/>
        </p:nvSpPr>
        <p:spPr>
          <a:xfrm>
            <a:off x="5925960" y="4537080"/>
            <a:ext cx="2737080" cy="576360"/>
          </a:xfrm>
          <a:prstGeom prst="rect">
            <a:avLst/>
          </a:prstGeom>
          <a:gradFill rotWithShape="0">
            <a:gsLst>
              <a:gs pos="0">
                <a:srgbClr val="9bcc9b"/>
              </a:gs>
              <a:gs pos="50000">
                <a:srgbClr val="339933"/>
              </a:gs>
              <a:gs pos="100000">
                <a:srgbClr val="9bcc9b"/>
              </a:gs>
            </a:gsLst>
            <a:lin ang="13500000"/>
          </a:gra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Convoca o </a:t>
            </a:r>
            <a:r>
              <a:rPr b="1" lang="en-US" sz="2000" spc="-1" strike="noStrike">
                <a:solidFill>
                  <a:srgbClr val="ff0000"/>
                </a:solidFill>
                <a:latin typeface="Segoe Semibold"/>
              </a:rPr>
              <a:t>Solici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para o Preg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149960" y="426420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940360" y="5445000"/>
            <a:ext cx="2737080" cy="1224000"/>
          </a:xfrm>
          <a:prstGeom prst="rect">
            <a:avLst/>
          </a:prstGeom>
          <a:gradFill rotWithShape="0">
            <a:gsLst>
              <a:gs pos="0">
                <a:srgbClr val="9bcc9b"/>
              </a:gs>
              <a:gs pos="50000">
                <a:srgbClr val="339933"/>
              </a:gs>
              <a:gs pos="100000">
                <a:srgbClr val="9bcc9b"/>
              </a:gs>
            </a:gsLst>
            <a:lin ang="13500000"/>
          </a:gra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Envia Homologaç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Dirigente e Inf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O valor da comp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para a SU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164360" y="511344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907920"/>
            <a:ext cx="9144000" cy="595008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258920" y="1700280"/>
            <a:ext cx="7597800" cy="3241440"/>
          </a:xfrm>
          <a:prstGeom prst="wedgeRoundRectCallout">
            <a:avLst>
              <a:gd name="adj1" fmla="val -41078"/>
              <a:gd name="adj2" fmla="val 71694"/>
              <a:gd name="adj3" fmla="val 16667"/>
            </a:avLst>
          </a:prstGeom>
          <a:gradFill rotWithShape="0">
            <a:gsLst>
              <a:gs pos="0">
                <a:srgbClr val="cc82cc"/>
              </a:gs>
              <a:gs pos="50000">
                <a:srgbClr val="990099"/>
              </a:gs>
              <a:gs pos="100000">
                <a:srgbClr val="cc82cc"/>
              </a:gs>
            </a:gsLst>
            <a:lin ang="135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Segoe Semibold"/>
              </a:rPr>
              <a:t>O Formulário deverá ser enviado pe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Segoe Semibold"/>
              </a:rPr>
              <a:t>Gerente ou Adjunto (Estruturador) ou pe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Segoe Semibold"/>
              </a:rPr>
              <a:t>Responsável pela ação (Associados) devidam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Segoe Semibold"/>
              </a:rPr>
              <a:t>assinado até o </a:t>
            </a:r>
            <a:r>
              <a:rPr b="1" lang="pt-BR" sz="2400" spc="-1" strike="noStrike" u="sng">
                <a:solidFill>
                  <a:srgbClr val="ffffff"/>
                </a:solidFill>
                <a:uFillTx/>
                <a:latin typeface="Segoe Semibold"/>
              </a:rPr>
              <a:t>5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Segoe Semibold"/>
              </a:rPr>
              <a:t>º dia útil</a:t>
            </a:r>
            <a:r>
              <a:rPr b="1" lang="pt-BR" sz="2400" spc="-1" strike="noStrike">
                <a:solidFill>
                  <a:srgbClr val="ffffff"/>
                </a:solidFill>
                <a:latin typeface="Segoe Semibold"/>
              </a:rPr>
              <a:t>. Caso hajam compr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Segoe Semibold"/>
              </a:rPr>
              <a:t>ou convênios que </a:t>
            </a:r>
            <a:r>
              <a:rPr b="1" lang="pt-BR" sz="2400" spc="-1" strike="noStrike" u="sng">
                <a:solidFill>
                  <a:srgbClr val="ffffff"/>
                </a:solidFill>
                <a:uFillTx/>
                <a:latin typeface="Segoe Semibold"/>
              </a:rPr>
              <a:t>devam se iniciar </a:t>
            </a:r>
            <a:r>
              <a:rPr b="1" lang="pt-BR" sz="2400" spc="-1" strike="noStrike">
                <a:solidFill>
                  <a:srgbClr val="ffffff"/>
                </a:solidFill>
                <a:latin typeface="Segoe Semibold"/>
              </a:rPr>
              <a:t>no mê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Segoe Semibold"/>
              </a:rPr>
              <a:t>em questão, o formulário deverá ser encaminh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Segoe Semibold"/>
              </a:rPr>
              <a:t>com o </a:t>
            </a:r>
            <a:r>
              <a:rPr b="1" lang="pt-BR" sz="2400" spc="-1" strike="noStrike" u="sng">
                <a:solidFill>
                  <a:srgbClr val="ffffff"/>
                </a:solidFill>
                <a:uFillTx/>
                <a:latin typeface="Segoe Semibold"/>
              </a:rPr>
              <a:t>Termo de Referência ou Pla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ffff"/>
                </a:solidFill>
                <a:uFillTx/>
                <a:latin typeface="Segoe Semibold"/>
              </a:rPr>
              <a:t>de Trabalho com justificativa preenchido</a:t>
            </a:r>
            <a:r>
              <a:rPr b="1" lang="pt-BR" sz="2400" spc="-1" strike="noStrike">
                <a:solidFill>
                  <a:srgbClr val="ffffff"/>
                </a:solidFill>
                <a:latin typeface="Segoe Semi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23840" y="5734080"/>
            <a:ext cx="2376360" cy="934920"/>
          </a:xfrm>
          <a:prstGeom prst="rect">
            <a:avLst/>
          </a:prstGeom>
          <a:gradFill rotWithShape="0">
            <a:gsLst>
              <a:gs pos="0">
                <a:srgbClr val="9bcc9b"/>
              </a:gs>
              <a:gs pos="50000">
                <a:srgbClr val="339933"/>
              </a:gs>
              <a:gs pos="100000">
                <a:srgbClr val="9bcc9b"/>
              </a:gs>
            </a:gsLst>
            <a:lin ang="13500000"/>
          </a:gra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Envia para a SUP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o Formulár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de Solicit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9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1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3" name=""/>
          <p:cNvSpPr/>
          <p:nvPr/>
        </p:nvSpPr>
        <p:spPr>
          <a:xfrm>
            <a:off x="682560" y="40176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Fluxo Mensal</a:t>
            </a: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108000" y="981000"/>
            <a:ext cx="2663640" cy="531360"/>
            <a:chOff x="108000" y="981000"/>
            <a:chExt cx="2663640" cy="531360"/>
          </a:xfrm>
        </p:grpSpPr>
        <p:pic>
          <p:nvPicPr>
            <p:cNvPr id="485" name="" descr=""/>
            <p:cNvPicPr/>
            <p:nvPr/>
          </p:nvPicPr>
          <p:blipFill>
            <a:blip r:embed="rId9"/>
            <a:stretch/>
          </p:blipFill>
          <p:spPr>
            <a:xfrm rot="5400000">
              <a:off x="1151280" y="-62280"/>
              <a:ext cx="505080" cy="25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108000" y="1052640"/>
              <a:ext cx="26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Cookie"/>
                </a:rPr>
                <a:t>SUR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324000" y="3718080"/>
            <a:ext cx="1828800" cy="934920"/>
          </a:xfrm>
          <a:prstGeom prst="rect">
            <a:avLst/>
          </a:prstGeom>
          <a:gradFill rotWithShape="0">
            <a:gsLst>
              <a:gs pos="0">
                <a:srgbClr val="9bcc9b"/>
              </a:gs>
              <a:gs pos="50000">
                <a:srgbClr val="339933"/>
              </a:gs>
              <a:gs pos="100000">
                <a:srgbClr val="9bcc9b"/>
              </a:gs>
            </a:gsLst>
            <a:lin ang="13500000"/>
          </a:gra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Envia para 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Financei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24000" y="2205000"/>
            <a:ext cx="1828800" cy="934920"/>
          </a:xfrm>
          <a:prstGeom prst="rect">
            <a:avLst/>
          </a:prstGeom>
          <a:gradFill rotWithShape="0">
            <a:gsLst>
              <a:gs pos="0">
                <a:srgbClr val="9bcc9b"/>
              </a:gs>
              <a:gs pos="50000">
                <a:srgbClr val="339933"/>
              </a:gs>
              <a:gs pos="100000">
                <a:srgbClr val="9bcc9b"/>
              </a:gs>
            </a:gsLst>
            <a:lin ang="13500000"/>
          </a:gra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Process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Homolog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216080" y="3170160"/>
            <a:ext cx="0" cy="505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2916360" y="981000"/>
            <a:ext cx="2663640" cy="531360"/>
            <a:chOff x="2916360" y="981000"/>
            <a:chExt cx="2663640" cy="531360"/>
          </a:xfrm>
        </p:grpSpPr>
        <p:pic>
          <p:nvPicPr>
            <p:cNvPr id="491" name="" descr=""/>
            <p:cNvPicPr/>
            <p:nvPr/>
          </p:nvPicPr>
          <p:blipFill>
            <a:blip r:embed="rId10"/>
            <a:stretch/>
          </p:blipFill>
          <p:spPr>
            <a:xfrm rot="5400000">
              <a:off x="3959640" y="-62280"/>
              <a:ext cx="505080" cy="25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2916360" y="1052640"/>
              <a:ext cx="26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Cookie"/>
                </a:rPr>
                <a:t>SUC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3246480" y="2952720"/>
            <a:ext cx="1828800" cy="763560"/>
          </a:xfrm>
          <a:prstGeom prst="rect">
            <a:avLst/>
          </a:prstGeom>
          <a:gradFill rotWithShape="0">
            <a:gsLst>
              <a:gs pos="0">
                <a:srgbClr val="9bcc9b"/>
              </a:gs>
              <a:gs pos="50000">
                <a:srgbClr val="339933"/>
              </a:gs>
              <a:gs pos="100000">
                <a:srgbClr val="9bcc9b"/>
              </a:gs>
            </a:gsLst>
            <a:lin ang="13500000"/>
          </a:gra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Confere co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e empen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132000" y="1717560"/>
            <a:ext cx="2160720" cy="935280"/>
          </a:xfrm>
          <a:prstGeom prst="rect">
            <a:avLst/>
          </a:prstGeom>
          <a:gradFill rotWithShape="0">
            <a:gsLst>
              <a:gs pos="0">
                <a:srgbClr val="9bcc9b"/>
              </a:gs>
              <a:gs pos="50000">
                <a:srgbClr val="339933"/>
              </a:gs>
              <a:gs pos="100000">
                <a:srgbClr val="9bcc9b"/>
              </a:gs>
            </a:gsLst>
            <a:lin ang="13500000"/>
          </a:gra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Verif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document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receb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211640" y="265428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959200" y="4308480"/>
            <a:ext cx="2519280" cy="1297080"/>
          </a:xfrm>
          <a:prstGeom prst="rect">
            <a:avLst/>
          </a:prstGeom>
          <a:gradFill rotWithShape="0">
            <a:gsLst>
              <a:gs pos="0">
                <a:srgbClr val="9bcc9b"/>
              </a:gs>
              <a:gs pos="50000">
                <a:srgbClr val="339933"/>
              </a:gs>
              <a:gs pos="100000">
                <a:srgbClr val="9bcc9b"/>
              </a:gs>
            </a:gsLst>
            <a:lin ang="13500000"/>
          </a:gra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Encaminha pa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a SUR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(Patrimôn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Almoxarifad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183200" y="3762360"/>
            <a:ext cx="0" cy="504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771640" y="1989000"/>
            <a:ext cx="0" cy="4869000"/>
          </a:xfrm>
          <a:prstGeom prst="line">
            <a:avLst/>
          </a:prstGeom>
          <a:ln w="19080">
            <a:solidFill>
              <a:srgbClr val="808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9" name=""/>
          <p:cNvCxnSpPr>
            <a:stCxn id="487" idx="3"/>
            <a:endCxn id="494" idx="1"/>
          </p:cNvCxnSpPr>
          <p:nvPr/>
        </p:nvCxnSpPr>
        <p:spPr>
          <a:xfrm flipV="1">
            <a:off x="2152800" y="2185560"/>
            <a:ext cx="979920" cy="2000880"/>
          </a:xfrm>
          <a:prstGeom prst="bentConnector3">
            <a:avLst>
              <a:gd name="adj1" fmla="val 49908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0" name=""/>
          <p:cNvCxnSpPr>
            <a:stCxn id="496" idx="3"/>
            <a:endCxn id="501" idx="1"/>
          </p:cNvCxnSpPr>
          <p:nvPr/>
        </p:nvCxnSpPr>
        <p:spPr>
          <a:xfrm flipV="1">
            <a:off x="5478480" y="2493720"/>
            <a:ext cx="606960" cy="2464560"/>
          </a:xfrm>
          <a:prstGeom prst="bentConnector3">
            <a:avLst>
              <a:gd name="adj1" fmla="val 4973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02" name=""/>
          <p:cNvGrpSpPr/>
          <p:nvPr/>
        </p:nvGrpSpPr>
        <p:grpSpPr>
          <a:xfrm>
            <a:off x="5869080" y="981000"/>
            <a:ext cx="2663640" cy="531360"/>
            <a:chOff x="5869080" y="981000"/>
            <a:chExt cx="2663640" cy="531360"/>
          </a:xfrm>
        </p:grpSpPr>
        <p:pic>
          <p:nvPicPr>
            <p:cNvPr id="503" name="" descr=""/>
            <p:cNvPicPr/>
            <p:nvPr/>
          </p:nvPicPr>
          <p:blipFill>
            <a:blip r:embed="rId11"/>
            <a:stretch/>
          </p:blipFill>
          <p:spPr>
            <a:xfrm rot="5400000">
              <a:off x="6912360" y="-62280"/>
              <a:ext cx="505080" cy="25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5869080" y="1052640"/>
              <a:ext cx="26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Cookie"/>
                </a:rPr>
                <a:t>SUR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6084720" y="2133720"/>
            <a:ext cx="2160720" cy="718920"/>
          </a:xfrm>
          <a:prstGeom prst="rect">
            <a:avLst/>
          </a:prstGeom>
          <a:gradFill rotWithShape="0">
            <a:gsLst>
              <a:gs pos="0">
                <a:srgbClr val="9bcc9b"/>
              </a:gs>
              <a:gs pos="50000">
                <a:srgbClr val="339933"/>
              </a:gs>
              <a:gs pos="100000">
                <a:srgbClr val="9bcc9b"/>
              </a:gs>
            </a:gsLst>
            <a:lin ang="13500000"/>
          </a:gra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Verifica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entre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651640" y="1916280"/>
            <a:ext cx="0" cy="4941720"/>
          </a:xfrm>
          <a:prstGeom prst="line">
            <a:avLst/>
          </a:prstGeom>
          <a:ln w="19080">
            <a:solidFill>
              <a:srgbClr val="808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164360" y="2852640"/>
            <a:ext cx="0" cy="289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5866920" y="1557360"/>
            <a:ext cx="2664360" cy="531000"/>
            <a:chOff x="5866920" y="1557360"/>
            <a:chExt cx="2664360" cy="531000"/>
          </a:xfrm>
        </p:grpSpPr>
        <p:pic>
          <p:nvPicPr>
            <p:cNvPr id="508" name="" descr=""/>
            <p:cNvPicPr/>
            <p:nvPr/>
          </p:nvPicPr>
          <p:blipFill>
            <a:blip r:embed="rId12"/>
            <a:stretch/>
          </p:blipFill>
          <p:spPr>
            <a:xfrm rot="5400000">
              <a:off x="6910560" y="513360"/>
              <a:ext cx="504720" cy="25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5867280" y="1628640"/>
              <a:ext cx="26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Cookie"/>
                </a:rPr>
                <a:t>COPA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5925960" y="3213000"/>
            <a:ext cx="2737080" cy="1224000"/>
          </a:xfrm>
          <a:prstGeom prst="rect">
            <a:avLst/>
          </a:prstGeom>
          <a:gradFill rotWithShape="0">
            <a:gsLst>
              <a:gs pos="0">
                <a:srgbClr val="9bcc9b"/>
              </a:gs>
              <a:gs pos="50000">
                <a:srgbClr val="339933"/>
              </a:gs>
              <a:gs pos="100000">
                <a:srgbClr val="9bcc9b"/>
              </a:gs>
            </a:gsLst>
            <a:lin ang="13500000"/>
          </a:gra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Convoca o </a:t>
            </a:r>
            <a:r>
              <a:rPr b="1" lang="en-US" sz="2000" spc="-1" strike="noStrike">
                <a:solidFill>
                  <a:srgbClr val="ff0000"/>
                </a:solidFill>
                <a:latin typeface="Segoe Semibold"/>
              </a:rPr>
              <a:t>Solici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para confer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mercadoria e ates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nota Fis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940360" y="4797360"/>
            <a:ext cx="2737080" cy="432000"/>
          </a:xfrm>
          <a:prstGeom prst="rect">
            <a:avLst/>
          </a:prstGeom>
          <a:gradFill rotWithShape="0">
            <a:gsLst>
              <a:gs pos="0">
                <a:srgbClr val="9bcc9b"/>
              </a:gs>
              <a:gs pos="50000">
                <a:srgbClr val="339933"/>
              </a:gs>
              <a:gs pos="100000">
                <a:srgbClr val="9bcc9b"/>
              </a:gs>
            </a:gsLst>
            <a:lin ang="13500000"/>
          </a:gra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Libera Pag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164360" y="4451400"/>
            <a:ext cx="0" cy="288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3" name=""/>
          <p:cNvCxnSpPr>
            <a:stCxn id="511" idx="2"/>
            <a:endCxn id="514" idx="3"/>
          </p:cNvCxnSpPr>
          <p:nvPr/>
        </p:nvCxnSpPr>
        <p:spPr>
          <a:xfrm rot="5400000">
            <a:off x="5956200" y="4779000"/>
            <a:ext cx="902160" cy="18025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4" name=""/>
          <p:cNvSpPr/>
          <p:nvPr/>
        </p:nvSpPr>
        <p:spPr>
          <a:xfrm>
            <a:off x="2987640" y="5950080"/>
            <a:ext cx="2519280" cy="360360"/>
          </a:xfrm>
          <a:prstGeom prst="rect">
            <a:avLst/>
          </a:prstGeom>
          <a:gradFill rotWithShape="0">
            <a:gsLst>
              <a:gs pos="0">
                <a:srgbClr val="9bcc9b"/>
              </a:gs>
              <a:gs pos="50000">
                <a:srgbClr val="339933"/>
              </a:gs>
              <a:gs pos="100000">
                <a:srgbClr val="9bcc9b"/>
              </a:gs>
            </a:gsLst>
            <a:lin ang="13500000"/>
          </a:gra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egoe Semibold"/>
              </a:rPr>
              <a:t>Paga e Arquiv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122400" y="1555920"/>
            <a:ext cx="2663640" cy="531000"/>
            <a:chOff x="122400" y="1555920"/>
            <a:chExt cx="2663640" cy="531000"/>
          </a:xfrm>
        </p:grpSpPr>
        <p:pic>
          <p:nvPicPr>
            <p:cNvPr id="516" name="" descr=""/>
            <p:cNvPicPr/>
            <p:nvPr/>
          </p:nvPicPr>
          <p:blipFill>
            <a:blip r:embed="rId13"/>
            <a:stretch/>
          </p:blipFill>
          <p:spPr>
            <a:xfrm rot="5400000">
              <a:off x="1166040" y="511920"/>
              <a:ext cx="504720" cy="25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122400" y="1627200"/>
              <a:ext cx="26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Cookie"/>
                </a:rPr>
                <a:t>COG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2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6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8" name=""/>
          <p:cNvSpPr/>
          <p:nvPr/>
        </p:nvSpPr>
        <p:spPr>
          <a:xfrm>
            <a:off x="324000" y="1484280"/>
            <a:ext cx="828036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odas as solicitações serão comparadas com o planejamento anual das atividades. Em caso de divergência, estouro de orçamento e/ou não cumprimento dos prazos, o responsável pela ação será acionado pela SUPM para revisão do planejamento da açã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24000" y="83664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Observa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3382560" y="3068280"/>
            <a:ext cx="576108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Century Gothic"/>
              </a:rPr>
              <a:t>Data: 18.02.08</a:t>
            </a:r>
            <a:r>
              <a:rPr b="0" lang="pt-BR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pt-BR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pt-BR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pt-BR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pt-BR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pt-BR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pt-BR" sz="1800" spc="-1" strike="noStrike">
                <a:solidFill>
                  <a:srgbClr val="4d4d4d"/>
                </a:solidFill>
                <a:latin typeface="Century Gothi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26920" y="136224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4d4d4d"/>
                </a:solidFill>
                <a:latin typeface="Century Gothic"/>
              </a:rPr>
              <a:t>Itens Maior Impac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2773440" y="6381720"/>
            <a:ext cx="718920" cy="29700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3924360" y="6453360"/>
            <a:ext cx="792000" cy="22536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3"/>
          <a:stretch/>
        </p:blipFill>
        <p:spPr>
          <a:xfrm>
            <a:off x="5219640" y="6364440"/>
            <a:ext cx="792360" cy="34920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4"/>
          <a:stretch/>
        </p:blipFill>
        <p:spPr>
          <a:xfrm>
            <a:off x="6516720" y="6245280"/>
            <a:ext cx="863640" cy="47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6" name=""/>
          <p:cNvGraphicFramePr/>
          <p:nvPr/>
        </p:nvGraphicFramePr>
        <p:xfrm>
          <a:off x="0" y="2654280"/>
          <a:ext cx="9144000" cy="91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654280"/>
                    <a:ext cx="91440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"/>
          <p:cNvGraphicFramePr/>
          <p:nvPr/>
        </p:nvGraphicFramePr>
        <p:xfrm>
          <a:off x="1547640" y="6308640"/>
          <a:ext cx="673200" cy="38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47640" y="630864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4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0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1042920" y="2349360"/>
            <a:ext cx="7705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lanejamento Estraté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luxograma de Atualização das Informações dos Projetos Estruturadores, Associados e Convênios e Solicitação de Recurs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tens de Maior Impa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138744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Arial"/>
              </a:rPr>
              <a:t>PAU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382560" y="3068280"/>
            <a:ext cx="576108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Century Gothic"/>
              </a:rPr>
              <a:t>Data: 18.02.08 </a:t>
            </a:r>
            <a:r>
              <a:rPr b="0" lang="pt-BR" sz="20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pt-BR" sz="20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pt-BR" sz="20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pt-BR" sz="20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pt-BR" sz="20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pt-BR" sz="20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pt-BR" sz="2000" spc="-1" strike="noStrike">
                <a:solidFill>
                  <a:srgbClr val="4d4d4d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280" y="404640"/>
            <a:ext cx="831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d4d4d"/>
                </a:solidFill>
                <a:latin typeface="Century Gothic"/>
              </a:rPr>
              <a:t>Fluxograma de Atualização das Informações dos Projetos e Solicitação de Recur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2773440" y="6381720"/>
            <a:ext cx="718920" cy="297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924360" y="6453360"/>
            <a:ext cx="792000" cy="225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219640" y="6364440"/>
            <a:ext cx="792360" cy="349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516720" y="6245280"/>
            <a:ext cx="863640" cy="47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0" y="2654280"/>
          <a:ext cx="9144000" cy="91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654280"/>
                    <a:ext cx="91440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547640" y="6308640"/>
          <a:ext cx="673200" cy="38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47640" y="630864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" descr=""/>
          <p:cNvPicPr/>
          <p:nvPr/>
        </p:nvPicPr>
        <p:blipFill>
          <a:blip r:embed="rId3"/>
          <a:srcRect l="0" t="-4185" r="-3407" b="0"/>
          <a:stretch/>
        </p:blipFill>
        <p:spPr>
          <a:xfrm>
            <a:off x="5504040" y="4460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6313320" y="5238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7278840" y="450720"/>
            <a:ext cx="718920" cy="317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8101080" y="2728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4683240" y="407880"/>
          <a:ext cx="672840" cy="389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83240" y="407880"/>
                    <a:ext cx="6728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216000" y="765000"/>
            <a:ext cx="781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66"/>
                </a:solidFill>
                <a:latin typeface="Tahoma"/>
              </a:rPr>
              <a:t>Estado para Resultados</a:t>
            </a:r>
            <a:br>
              <a:rPr sz="2800"/>
            </a:br>
            <a:r>
              <a:rPr b="1" lang="pt-BR" sz="2800" spc="-1" strike="noStrike">
                <a:solidFill>
                  <a:srgbClr val="006666"/>
                </a:solidFill>
                <a:latin typeface="Tahoma"/>
              </a:rPr>
              <a:t>Compromissos Bás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1620720"/>
            <a:ext cx="8785440" cy="50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Qualidade Fis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Equilíbrio fiscal como pressuposto da ação governamen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Elevação do investimento estratégico, simplificação e descomplic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Gestão Eficient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Ênfase setorial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qualidade e  produtividade do gasto setorial e  atendimento ao cidad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nitoramento e avaliação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desempenho do Governo mensurado pela evolução dos indicadores finalístic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overnança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Coordenação de Governo por Áreas de Resulta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centivos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cordo de resultado do órgão  contratualiza  as Áreas de Resul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 flipH="1">
            <a:off x="123840" y="2203560"/>
            <a:ext cx="8879040" cy="3381120"/>
          </a:xfrm>
          <a:prstGeom prst="rect">
            <a:avLst/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Gill Sans MT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Gill Sans MT"/>
              </a:rPr>
              <a:t>ESTADO PARA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 rot="10800000">
            <a:off x="126000" y="548280"/>
            <a:ext cx="8875800" cy="1654200"/>
          </a:xfrm>
          <a:prstGeom prst="rect">
            <a:avLst/>
          </a:prstGeom>
          <a:solidFill>
            <a:srgbClr val="e2d8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PLANO MINEIRO DE DESENVOLVIMENTO INTEGRADO – 2007/20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17880" y="1814400"/>
            <a:ext cx="1162080" cy="1016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efeb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35040" y="2960640"/>
            <a:ext cx="6151680" cy="1090800"/>
          </a:xfrm>
          <a:prstGeom prst="ellipse">
            <a:avLst/>
          </a:prstGeom>
          <a:solidFill>
            <a:srgbClr val="efeb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Gill Sans MT"/>
              </a:rPr>
              <a:t>PLANEJAMENTO E GESTÃO (CURTO E MÉDIO PRAZO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01760" y="5950080"/>
            <a:ext cx="6573960" cy="728640"/>
          </a:xfrm>
          <a:prstGeom prst="ellipse">
            <a:avLst/>
          </a:prstGeom>
          <a:solidFill>
            <a:srgbClr val="efeb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Gill Sans MT"/>
              </a:rPr>
              <a:t>PERSPECTIVA DOS EIXOS DE ATUAÇÃO POR DESTINATÁ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17360" y="139680"/>
            <a:ext cx="8885520" cy="4208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54000" bIns="54000" anchor="ctr">
            <a:noAutofit/>
          </a:bodyPr>
          <a:p>
            <a:pPr marL="85680" indent="-8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Arial"/>
              </a:rPr>
              <a:t>MINAS: O MELHOR ESTADO PARA SE VIV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142920" y="5580000"/>
            <a:ext cx="8858160" cy="1155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DESTINATÁRIOS DAS POLÍTICAS PÚBL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11360" y="928800"/>
            <a:ext cx="5819760" cy="873000"/>
          </a:xfrm>
          <a:prstGeom prst="ellipse">
            <a:avLst/>
          </a:prstGeom>
          <a:solidFill>
            <a:srgbClr val="efeb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Gill Sans MT"/>
              </a:rPr>
              <a:t>PERSPECTIVA DE </a:t>
            </a: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Gill Sans MT"/>
              </a:rPr>
              <a:t>LONGO PRA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 flipH="1">
            <a:off x="123840" y="2203560"/>
            <a:ext cx="8879040" cy="3381120"/>
          </a:xfrm>
          <a:prstGeom prst="rect">
            <a:avLst/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Gill Sans MT"/>
              </a:rPr>
              <a:t>ESTADO PARA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42920" y="5580000"/>
            <a:ext cx="8858160" cy="1155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DESTINATÁRIOS DAS POLÍTICAS PÚBL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938160" y="5949360"/>
            <a:ext cx="7199280" cy="675360"/>
            <a:chOff x="938160" y="5949360"/>
            <a:chExt cx="7199280" cy="675360"/>
          </a:xfrm>
        </p:grpSpPr>
        <p:sp>
          <p:nvSpPr>
            <p:cNvPr id="140" name=""/>
            <p:cNvSpPr/>
            <p:nvPr/>
          </p:nvSpPr>
          <p:spPr>
            <a:xfrm flipV="1" rot="5400000">
              <a:off x="1288440" y="5598720"/>
              <a:ext cx="664920" cy="13654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Gill Sans MT"/>
                </a:rPr>
                <a:t>PESSOAS INSTRUÍDAS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Gill Sans MT"/>
                </a:rPr>
                <a:t>SAUDÁVEIS E QUALIFICAD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 rot="5400000">
              <a:off x="7134120" y="5621400"/>
              <a:ext cx="673200" cy="1333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Gill Sans MT"/>
                </a:rPr>
                <a:t>CIDADES SEGURAS E BEM CUIDAD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 rot="5400000">
              <a:off x="5658480" y="5623560"/>
              <a:ext cx="674640" cy="1327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Gill Sans MT"/>
                </a:rPr>
                <a:t>EQÜIDADE ENTRE PESSOAS E REGIÕ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 rot="5400000">
              <a:off x="2777400" y="5619240"/>
              <a:ext cx="672840" cy="1332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Gill Sans MT"/>
                </a:rPr>
                <a:t>JOVENS PROTAGONIST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 rot="5400000">
              <a:off x="4220280" y="5623560"/>
              <a:ext cx="674640" cy="1327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Gill Sans MT"/>
                </a:rPr>
                <a:t>EMPRESAS DINÂMICAS E INOVADOR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 flipH="1">
            <a:off x="117360" y="139680"/>
            <a:ext cx="8885520" cy="4208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54000" bIns="54000" anchor="ctr">
            <a:noAutofit/>
          </a:bodyPr>
          <a:p>
            <a:pPr marL="85680" indent="-8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Arial"/>
              </a:rPr>
              <a:t>MINAS: O MELHOR ESTADO PARA SE VIV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 rot="10800000">
            <a:off x="126000" y="548280"/>
            <a:ext cx="8875800" cy="1654200"/>
          </a:xfrm>
          <a:prstGeom prst="rect">
            <a:avLst/>
          </a:prstGeom>
          <a:solidFill>
            <a:srgbClr val="e2d8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PLANO MINEIRO DE DESENVOLVIMENTO INTEGRADO – 2007/20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7280" y="981000"/>
            <a:ext cx="1366920" cy="719280"/>
          </a:xfrm>
          <a:prstGeom prst="roundRect">
            <a:avLst>
              <a:gd name="adj" fmla="val 16667"/>
            </a:avLst>
          </a:prstGeom>
          <a:solidFill>
            <a:srgbClr val="fafbc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Perspectiva Integrada do Capital Hum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85880" y="981000"/>
            <a:ext cx="1366920" cy="719280"/>
          </a:xfrm>
          <a:prstGeom prst="roundRect">
            <a:avLst>
              <a:gd name="adj" fmla="val 16667"/>
            </a:avLst>
          </a:prstGeom>
          <a:solidFill>
            <a:srgbClr val="fafbc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Investimento e Negó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68720" y="981000"/>
            <a:ext cx="1366920" cy="719280"/>
          </a:xfrm>
          <a:prstGeom prst="roundRect">
            <a:avLst>
              <a:gd name="adj" fmla="val 16667"/>
            </a:avLst>
          </a:prstGeom>
          <a:solidFill>
            <a:srgbClr val="fafbc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Integração Territorial Competitiv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88360" y="981000"/>
            <a:ext cx="1366560" cy="719280"/>
          </a:xfrm>
          <a:prstGeom prst="roundRect">
            <a:avLst>
              <a:gd name="adj" fmla="val 16667"/>
            </a:avLst>
          </a:prstGeom>
          <a:solidFill>
            <a:srgbClr val="fafbc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Sustentabilidade Ambie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48360" y="981000"/>
            <a:ext cx="1366920" cy="719280"/>
          </a:xfrm>
          <a:prstGeom prst="roundRect">
            <a:avLst>
              <a:gd name="adj" fmla="val 16667"/>
            </a:avLst>
          </a:prstGeom>
          <a:solidFill>
            <a:srgbClr val="fafbc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Eqüidade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Bem-e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08360" y="981000"/>
            <a:ext cx="1366920" cy="719280"/>
          </a:xfrm>
          <a:prstGeom prst="roundRect">
            <a:avLst>
              <a:gd name="adj" fmla="val 16667"/>
            </a:avLst>
          </a:prstGeom>
          <a:solidFill>
            <a:srgbClr val="fafbc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Rede de C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90560" y="1879560"/>
            <a:ext cx="633600" cy="324000"/>
          </a:xfrm>
          <a:prstGeom prst="upArrow">
            <a:avLst>
              <a:gd name="adj1" fmla="val 49870"/>
              <a:gd name="adj2" fmla="val 60296"/>
            </a:avLst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03400" y="1879560"/>
            <a:ext cx="633600" cy="324000"/>
          </a:xfrm>
          <a:prstGeom prst="upArrow">
            <a:avLst>
              <a:gd name="adj1" fmla="val 49870"/>
              <a:gd name="adj2" fmla="val 60296"/>
            </a:avLst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14680" y="1879560"/>
            <a:ext cx="633600" cy="324000"/>
          </a:xfrm>
          <a:prstGeom prst="upArrow">
            <a:avLst>
              <a:gd name="adj1" fmla="val 49870"/>
              <a:gd name="adj2" fmla="val 60296"/>
            </a:avLst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925880" y="1879560"/>
            <a:ext cx="633600" cy="324000"/>
          </a:xfrm>
          <a:prstGeom prst="upArrow">
            <a:avLst>
              <a:gd name="adj1" fmla="val 49870"/>
              <a:gd name="adj2" fmla="val 60296"/>
            </a:avLst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78480" y="1879560"/>
            <a:ext cx="633600" cy="324000"/>
          </a:xfrm>
          <a:prstGeom prst="upArrow">
            <a:avLst>
              <a:gd name="adj1" fmla="val 49870"/>
              <a:gd name="adj2" fmla="val 60296"/>
            </a:avLst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97880" y="1879560"/>
            <a:ext cx="633240" cy="324000"/>
          </a:xfrm>
          <a:prstGeom prst="upArrow">
            <a:avLst>
              <a:gd name="adj1" fmla="val 49870"/>
              <a:gd name="adj2" fmla="val 60296"/>
            </a:avLst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 flipH="1" flipV="1">
            <a:off x="122760" y="1766880"/>
            <a:ext cx="684360" cy="4968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Gill Sans MT"/>
              </a:rPr>
              <a:t>QUALIDADE FIS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301400" y="5265720"/>
            <a:ext cx="6482160" cy="324000"/>
            <a:chOff x="1301400" y="5265720"/>
            <a:chExt cx="6482160" cy="324000"/>
          </a:xfrm>
        </p:grpSpPr>
        <p:sp>
          <p:nvSpPr>
            <p:cNvPr id="161" name=""/>
            <p:cNvSpPr/>
            <p:nvPr/>
          </p:nvSpPr>
          <p:spPr>
            <a:xfrm rot="10800000">
              <a:off x="7149960" y="5265720"/>
              <a:ext cx="633600" cy="324000"/>
            </a:xfrm>
            <a:prstGeom prst="upArrow">
              <a:avLst>
                <a:gd name="adj1" fmla="val 49870"/>
                <a:gd name="adj2" fmla="val 60296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0800000">
              <a:off x="5673600" y="5265720"/>
              <a:ext cx="633600" cy="324000"/>
            </a:xfrm>
            <a:prstGeom prst="upArrow">
              <a:avLst>
                <a:gd name="adj1" fmla="val 49870"/>
                <a:gd name="adj2" fmla="val 60296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0800000">
              <a:off x="4217760" y="5265720"/>
              <a:ext cx="633240" cy="324000"/>
            </a:xfrm>
            <a:prstGeom prst="upArrow">
              <a:avLst>
                <a:gd name="adj1" fmla="val 49870"/>
                <a:gd name="adj2" fmla="val 60296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0800000">
              <a:off x="2806560" y="5265720"/>
              <a:ext cx="633600" cy="324000"/>
            </a:xfrm>
            <a:prstGeom prst="upArrow">
              <a:avLst>
                <a:gd name="adj1" fmla="val 49870"/>
                <a:gd name="adj2" fmla="val 60296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0800000">
              <a:off x="1301400" y="5265720"/>
              <a:ext cx="633240" cy="324000"/>
            </a:xfrm>
            <a:prstGeom prst="upArrow">
              <a:avLst>
                <a:gd name="adj1" fmla="val 49870"/>
                <a:gd name="adj2" fmla="val 60296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371520" y="6225120"/>
            <a:ext cx="193320" cy="192600"/>
            <a:chOff x="371520" y="6225120"/>
            <a:chExt cx="193320" cy="192600"/>
          </a:xfrm>
        </p:grpSpPr>
        <p:sp>
          <p:nvSpPr>
            <p:cNvPr id="167" name=""/>
            <p:cNvSpPr/>
            <p:nvPr/>
          </p:nvSpPr>
          <p:spPr>
            <a:xfrm rot="2161200">
              <a:off x="398160" y="6252840"/>
              <a:ext cx="139680" cy="13644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428400" y="6265800"/>
              <a:ext cx="80280" cy="1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330120" y="1884960"/>
            <a:ext cx="193320" cy="192600"/>
            <a:chOff x="330120" y="1884960"/>
            <a:chExt cx="193320" cy="192600"/>
          </a:xfrm>
        </p:grpSpPr>
        <p:sp>
          <p:nvSpPr>
            <p:cNvPr id="170" name=""/>
            <p:cNvSpPr/>
            <p:nvPr/>
          </p:nvSpPr>
          <p:spPr>
            <a:xfrm rot="2161200">
              <a:off x="356760" y="1912680"/>
              <a:ext cx="139680" cy="13644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87000" y="1925640"/>
              <a:ext cx="80280" cy="1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 flipH="1" flipV="1" rot="10800000">
            <a:off x="1019520" y="2637000"/>
            <a:ext cx="7077240" cy="2636640"/>
          </a:xfrm>
          <a:custGeom>
            <a:avLst/>
            <a:gdLst>
              <a:gd name="textAreaLeft" fmla="*/ -360 w 7077240"/>
              <a:gd name="textAreaRight" fmla="*/ 7077240 w 7077240"/>
              <a:gd name="textAreaTop" fmla="*/ 360 h 2636640"/>
              <a:gd name="textAreaBottom" fmla="*/ 2637360 h 263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ÁREAS DE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25680" y="2990880"/>
            <a:ext cx="6199200" cy="1901880"/>
          </a:xfrm>
          <a:prstGeom prst="ellipse">
            <a:avLst/>
          </a:prstGeom>
          <a:solidFill>
            <a:srgbClr val="efeb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Gill Sans MT"/>
              </a:rPr>
              <a:t>DEFINE OBJETIVOS, INDICADORES E PROJETOS DE ALTO IMPA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8317080" y="1768320"/>
            <a:ext cx="684000" cy="4967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Gill Sans MT"/>
              </a:rPr>
              <a:t>QUALIDADE E INOV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pt-BR" sz="1400" spc="-1" strike="noStrike">
                <a:solidFill>
                  <a:srgbClr val="000000"/>
                </a:solidFill>
                <a:latin typeface="Gill Sans MT"/>
              </a:rPr>
              <a:t>EM GESTÃO PÚB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8566560" y="6209280"/>
            <a:ext cx="193320" cy="192600"/>
            <a:chOff x="8566560" y="6209280"/>
            <a:chExt cx="193320" cy="192600"/>
          </a:xfrm>
        </p:grpSpPr>
        <p:sp>
          <p:nvSpPr>
            <p:cNvPr id="176" name=""/>
            <p:cNvSpPr/>
            <p:nvPr/>
          </p:nvSpPr>
          <p:spPr>
            <a:xfrm flipH="1" rot="19438800">
              <a:off x="8592840" y="6237000"/>
              <a:ext cx="139680" cy="13644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8622720" y="6249960"/>
              <a:ext cx="80280" cy="1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8582400" y="1854720"/>
            <a:ext cx="193320" cy="192600"/>
            <a:chOff x="8582400" y="1854720"/>
            <a:chExt cx="193320" cy="192600"/>
          </a:xfrm>
        </p:grpSpPr>
        <p:sp>
          <p:nvSpPr>
            <p:cNvPr id="179" name=""/>
            <p:cNvSpPr/>
            <p:nvPr/>
          </p:nvSpPr>
          <p:spPr>
            <a:xfrm flipH="1" rot="19438800">
              <a:off x="8608680" y="1882440"/>
              <a:ext cx="139680" cy="13644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8638560" y="1895400"/>
              <a:ext cx="80280" cy="1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 flipH="1">
            <a:off x="123840" y="2203560"/>
            <a:ext cx="8879040" cy="3381120"/>
          </a:xfrm>
          <a:prstGeom prst="rect">
            <a:avLst/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Gill Sans MT"/>
              </a:rPr>
              <a:t>ESTADO PARA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 flipV="1" rot="10800000">
            <a:off x="1019520" y="2637000"/>
            <a:ext cx="7077240" cy="2636640"/>
          </a:xfrm>
          <a:custGeom>
            <a:avLst/>
            <a:gdLst>
              <a:gd name="textAreaLeft" fmla="*/ -360 w 7077240"/>
              <a:gd name="textAreaRight" fmla="*/ 7077240 w 7077240"/>
              <a:gd name="textAreaTop" fmla="*/ 360 h 2636640"/>
              <a:gd name="textAreaBottom" fmla="*/ 2637360 h 263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ÁREAS DE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142920" y="5580000"/>
            <a:ext cx="8858160" cy="1155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DESTINATÁRIOS DAS POLÍTICAS PÚBL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938160" y="5949360"/>
            <a:ext cx="7199280" cy="675360"/>
            <a:chOff x="938160" y="5949360"/>
            <a:chExt cx="7199280" cy="675360"/>
          </a:xfrm>
        </p:grpSpPr>
        <p:sp>
          <p:nvSpPr>
            <p:cNvPr id="185" name=""/>
            <p:cNvSpPr/>
            <p:nvPr/>
          </p:nvSpPr>
          <p:spPr>
            <a:xfrm flipV="1" rot="5400000">
              <a:off x="1288440" y="5598720"/>
              <a:ext cx="664920" cy="13654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Gill Sans MT"/>
                </a:rPr>
                <a:t>PESSOAS INSTRUÍDAS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Gill Sans MT"/>
                </a:rPr>
                <a:t>SAUDÁVEIS E QUALIFICAD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 rot="5400000">
              <a:off x="7134120" y="5621400"/>
              <a:ext cx="673200" cy="1333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Gill Sans MT"/>
                </a:rPr>
                <a:t>CIDADES SEGURAS E BEM CUIDAD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 rot="5400000">
              <a:off x="5658480" y="5623560"/>
              <a:ext cx="674640" cy="1327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Gill Sans MT"/>
                </a:rPr>
                <a:t>EQÜIDADE ENTRE PESSOAS E REGIÕ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 rot="5400000">
              <a:off x="2777400" y="5619240"/>
              <a:ext cx="672840" cy="1332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Gill Sans MT"/>
                </a:rPr>
                <a:t>JOVENS PROTAGONIST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 rot="5400000">
              <a:off x="4220280" y="5623560"/>
              <a:ext cx="674640" cy="1327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Gill Sans MT"/>
                </a:rPr>
                <a:t>EMPRESAS DINÂMICAS E INOVADOR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 flipH="1">
            <a:off x="117360" y="139680"/>
            <a:ext cx="8885520" cy="4208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54000" bIns="54000" anchor="ctr">
            <a:noAutofit/>
          </a:bodyPr>
          <a:p>
            <a:pPr marL="85680" indent="-8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Arial"/>
              </a:rPr>
              <a:t>MINAS: O MELHOR ESTADO PARA SE VIV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 rot="10800000">
            <a:off x="126000" y="548280"/>
            <a:ext cx="8875800" cy="1654200"/>
          </a:xfrm>
          <a:prstGeom prst="rect">
            <a:avLst/>
          </a:prstGeom>
          <a:solidFill>
            <a:srgbClr val="e2d8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PLANO MINEIRO DE DESENVOLVIMENTO INTEGRADO – 2007/20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87280" y="981000"/>
            <a:ext cx="1366920" cy="719280"/>
          </a:xfrm>
          <a:prstGeom prst="roundRect">
            <a:avLst>
              <a:gd name="adj" fmla="val 16667"/>
            </a:avLst>
          </a:prstGeom>
          <a:solidFill>
            <a:srgbClr val="fafbc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Perspectiva Integrada do Capital Hum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85880" y="981000"/>
            <a:ext cx="1366920" cy="719280"/>
          </a:xfrm>
          <a:prstGeom prst="roundRect">
            <a:avLst>
              <a:gd name="adj" fmla="val 16667"/>
            </a:avLst>
          </a:prstGeom>
          <a:solidFill>
            <a:srgbClr val="fafbc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Investimento e Negó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168720" y="981000"/>
            <a:ext cx="1366920" cy="719280"/>
          </a:xfrm>
          <a:prstGeom prst="roundRect">
            <a:avLst>
              <a:gd name="adj" fmla="val 16667"/>
            </a:avLst>
          </a:prstGeom>
          <a:solidFill>
            <a:srgbClr val="fafbc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Integração Territorial Competitiv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488360" y="981000"/>
            <a:ext cx="1366560" cy="719280"/>
          </a:xfrm>
          <a:prstGeom prst="roundRect">
            <a:avLst>
              <a:gd name="adj" fmla="val 16667"/>
            </a:avLst>
          </a:prstGeom>
          <a:solidFill>
            <a:srgbClr val="fafbc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Sustentabilidade Ambie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48360" y="981000"/>
            <a:ext cx="1366920" cy="719280"/>
          </a:xfrm>
          <a:prstGeom prst="roundRect">
            <a:avLst>
              <a:gd name="adj" fmla="val 16667"/>
            </a:avLst>
          </a:prstGeom>
          <a:solidFill>
            <a:srgbClr val="fafbc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Eqüidade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Bem-e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08360" y="981000"/>
            <a:ext cx="1366920" cy="719280"/>
          </a:xfrm>
          <a:prstGeom prst="roundRect">
            <a:avLst>
              <a:gd name="adj" fmla="val 16667"/>
            </a:avLst>
          </a:prstGeom>
          <a:solidFill>
            <a:srgbClr val="fafbc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Rede de C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rId1" action="ppaction://hlinksldjump"/>
          </p:cNvPr>
          <p:cNvSpPr/>
          <p:nvPr/>
        </p:nvSpPr>
        <p:spPr>
          <a:xfrm>
            <a:off x="1258920" y="3033720"/>
            <a:ext cx="1405080" cy="5047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ill Sans MT"/>
              </a:rPr>
              <a:t>Educação de Qualid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rId2" action="ppaction://hlinksldjump"/>
          </p:cNvPr>
          <p:cNvSpPr/>
          <p:nvPr/>
        </p:nvSpPr>
        <p:spPr>
          <a:xfrm>
            <a:off x="1258920" y="4329000"/>
            <a:ext cx="1405080" cy="5050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ill Sans MT"/>
              </a:rPr>
              <a:t>Protagonismo Juven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>
            <a:hlinkClick r:id="rId3" action="ppaction://hlinksldjump"/>
          </p:cNvPr>
          <p:cNvSpPr/>
          <p:nvPr/>
        </p:nvSpPr>
        <p:spPr>
          <a:xfrm>
            <a:off x="1258920" y="3681360"/>
            <a:ext cx="1405080" cy="5047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ill Sans MT"/>
              </a:rPr>
              <a:t>Vida Saudá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14560" y="3033720"/>
            <a:ext cx="1621080" cy="5047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ill Sans MT"/>
              </a:rPr>
              <a:t>Investimento e Valor Agregado da Produ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914560" y="3681360"/>
            <a:ext cx="1621080" cy="5047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ill Sans MT"/>
              </a:rPr>
              <a:t>Inovação, Tecnologia e Qualid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14560" y="4329000"/>
            <a:ext cx="1621080" cy="5050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ill Sans MT"/>
              </a:rPr>
              <a:t>Logística de Integração e Desenvolv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88000" y="3033720"/>
            <a:ext cx="1404720" cy="86364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ill Sans MT"/>
              </a:rPr>
              <a:t>Redução da Pobreza e Inclusão Produ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43640" y="4329000"/>
            <a:ext cx="1405080" cy="5050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ill Sans MT"/>
              </a:rPr>
              <a:t>Defesa 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443640" y="3033720"/>
            <a:ext cx="1405080" cy="5047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ill Sans MT"/>
              </a:rPr>
              <a:t>Rede de Cidades e Serviç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443640" y="3681360"/>
            <a:ext cx="1405080" cy="5047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ill Sans MT"/>
              </a:rPr>
              <a:t>Qualidade Ambi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781520" y="4041720"/>
            <a:ext cx="1446120" cy="7923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ill Sans MT"/>
              </a:rPr>
              <a:t>Desenvolvimento do Norte de Minas,  Jequitinhonha, Mucuri e Rio Do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8317080" y="1768320"/>
            <a:ext cx="684000" cy="4967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Gill Sans MT"/>
              </a:rPr>
              <a:t>QUALIDADE E INOV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pt-BR" sz="1400" spc="-1" strike="noStrike">
                <a:solidFill>
                  <a:srgbClr val="000000"/>
                </a:solidFill>
                <a:latin typeface="Gill Sans MT"/>
              </a:rPr>
              <a:t>EM GESTÃO PÚB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90560" y="1879560"/>
            <a:ext cx="633600" cy="324000"/>
          </a:xfrm>
          <a:prstGeom prst="upArrow">
            <a:avLst>
              <a:gd name="adj1" fmla="val 49870"/>
              <a:gd name="adj2" fmla="val 60296"/>
            </a:avLst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003400" y="1879560"/>
            <a:ext cx="633600" cy="324000"/>
          </a:xfrm>
          <a:prstGeom prst="upArrow">
            <a:avLst>
              <a:gd name="adj1" fmla="val 49870"/>
              <a:gd name="adj2" fmla="val 60296"/>
            </a:avLst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14680" y="1879560"/>
            <a:ext cx="633600" cy="324000"/>
          </a:xfrm>
          <a:prstGeom prst="upArrow">
            <a:avLst>
              <a:gd name="adj1" fmla="val 49870"/>
              <a:gd name="adj2" fmla="val 60296"/>
            </a:avLst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925880" y="1879560"/>
            <a:ext cx="633600" cy="324000"/>
          </a:xfrm>
          <a:prstGeom prst="upArrow">
            <a:avLst>
              <a:gd name="adj1" fmla="val 49870"/>
              <a:gd name="adj2" fmla="val 60296"/>
            </a:avLst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78480" y="1879560"/>
            <a:ext cx="633600" cy="324000"/>
          </a:xfrm>
          <a:prstGeom prst="upArrow">
            <a:avLst>
              <a:gd name="adj1" fmla="val 49870"/>
              <a:gd name="adj2" fmla="val 60296"/>
            </a:avLst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697880" y="1879560"/>
            <a:ext cx="633240" cy="324000"/>
          </a:xfrm>
          <a:prstGeom prst="upArrow">
            <a:avLst>
              <a:gd name="adj1" fmla="val 49870"/>
              <a:gd name="adj2" fmla="val 60296"/>
            </a:avLst>
          </a:prstGeom>
          <a:solidFill>
            <a:srgbClr val="ae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122760" y="1766880"/>
            <a:ext cx="684360" cy="4968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Gill Sans MT"/>
              </a:rPr>
              <a:t>QUALIDADE FIS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301400" y="5265720"/>
            <a:ext cx="6482160" cy="324000"/>
            <a:chOff x="1301400" y="5265720"/>
            <a:chExt cx="6482160" cy="324000"/>
          </a:xfrm>
        </p:grpSpPr>
        <p:sp>
          <p:nvSpPr>
            <p:cNvPr id="218" name=""/>
            <p:cNvSpPr/>
            <p:nvPr/>
          </p:nvSpPr>
          <p:spPr>
            <a:xfrm rot="10800000">
              <a:off x="7149960" y="5265720"/>
              <a:ext cx="633600" cy="324000"/>
            </a:xfrm>
            <a:prstGeom prst="upArrow">
              <a:avLst>
                <a:gd name="adj1" fmla="val 49870"/>
                <a:gd name="adj2" fmla="val 60296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10800000">
              <a:off x="5673600" y="5265720"/>
              <a:ext cx="633600" cy="324000"/>
            </a:xfrm>
            <a:prstGeom prst="upArrow">
              <a:avLst>
                <a:gd name="adj1" fmla="val 49870"/>
                <a:gd name="adj2" fmla="val 60296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0800000">
              <a:off x="4217760" y="5265720"/>
              <a:ext cx="633240" cy="324000"/>
            </a:xfrm>
            <a:prstGeom prst="upArrow">
              <a:avLst>
                <a:gd name="adj1" fmla="val 49870"/>
                <a:gd name="adj2" fmla="val 60296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10800000">
              <a:off x="2806560" y="5265720"/>
              <a:ext cx="633600" cy="324000"/>
            </a:xfrm>
            <a:prstGeom prst="upArrow">
              <a:avLst>
                <a:gd name="adj1" fmla="val 49870"/>
                <a:gd name="adj2" fmla="val 60296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0800000">
              <a:off x="1301400" y="5265720"/>
              <a:ext cx="633240" cy="324000"/>
            </a:xfrm>
            <a:prstGeom prst="upArrow">
              <a:avLst>
                <a:gd name="adj1" fmla="val 49870"/>
                <a:gd name="adj2" fmla="val 60296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371520" y="6225120"/>
            <a:ext cx="193320" cy="192600"/>
            <a:chOff x="371520" y="6225120"/>
            <a:chExt cx="193320" cy="192600"/>
          </a:xfrm>
        </p:grpSpPr>
        <p:sp>
          <p:nvSpPr>
            <p:cNvPr id="224" name=""/>
            <p:cNvSpPr/>
            <p:nvPr/>
          </p:nvSpPr>
          <p:spPr>
            <a:xfrm rot="2161200">
              <a:off x="398160" y="6252840"/>
              <a:ext cx="139680" cy="13644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428400" y="6265800"/>
              <a:ext cx="80280" cy="1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330120" y="1884960"/>
            <a:ext cx="193320" cy="192600"/>
            <a:chOff x="330120" y="1884960"/>
            <a:chExt cx="193320" cy="192600"/>
          </a:xfrm>
        </p:grpSpPr>
        <p:sp>
          <p:nvSpPr>
            <p:cNvPr id="227" name=""/>
            <p:cNvSpPr/>
            <p:nvPr/>
          </p:nvSpPr>
          <p:spPr>
            <a:xfrm rot="2161200">
              <a:off x="356760" y="1912680"/>
              <a:ext cx="139680" cy="13644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387000" y="1925640"/>
              <a:ext cx="80280" cy="1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8572320" y="6236280"/>
            <a:ext cx="193680" cy="192960"/>
            <a:chOff x="8572320" y="6236280"/>
            <a:chExt cx="193680" cy="192960"/>
          </a:xfrm>
        </p:grpSpPr>
        <p:sp>
          <p:nvSpPr>
            <p:cNvPr id="230" name=""/>
            <p:cNvSpPr/>
            <p:nvPr/>
          </p:nvSpPr>
          <p:spPr>
            <a:xfrm flipH="1" rot="19438800">
              <a:off x="8598960" y="6264360"/>
              <a:ext cx="140040" cy="13644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8628840" y="6276960"/>
              <a:ext cx="80280" cy="1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8588880" y="1881720"/>
            <a:ext cx="193320" cy="192600"/>
            <a:chOff x="8588880" y="1881720"/>
            <a:chExt cx="193320" cy="192600"/>
          </a:xfrm>
        </p:grpSpPr>
        <p:sp>
          <p:nvSpPr>
            <p:cNvPr id="233" name=""/>
            <p:cNvSpPr/>
            <p:nvPr/>
          </p:nvSpPr>
          <p:spPr>
            <a:xfrm flipH="1" rot="19438800">
              <a:off x="8615160" y="1909440"/>
              <a:ext cx="139680" cy="13644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8645040" y="1922400"/>
              <a:ext cx="80280" cy="1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7" name="" descr=""/>
          <p:cNvPicPr/>
          <p:nvPr/>
        </p:nvPicPr>
        <p:blipFill>
          <a:blip r:embed="rId3"/>
          <a:srcRect l="0" t="-4185" r="-3407" b="0"/>
          <a:stretch/>
        </p:blipFill>
        <p:spPr>
          <a:xfrm>
            <a:off x="5504040" y="4460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6313320" y="5238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5"/>
          <a:stretch/>
        </p:blipFill>
        <p:spPr>
          <a:xfrm>
            <a:off x="7278840" y="450720"/>
            <a:ext cx="718920" cy="3175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6"/>
          <a:stretch/>
        </p:blipFill>
        <p:spPr>
          <a:xfrm>
            <a:off x="8101080" y="2728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4683240" y="407880"/>
          <a:ext cx="672840" cy="389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83240" y="407880"/>
                    <a:ext cx="6728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5" name=""/>
          <p:cNvGrpSpPr/>
          <p:nvPr/>
        </p:nvGrpSpPr>
        <p:grpSpPr>
          <a:xfrm>
            <a:off x="4287960" y="1163520"/>
            <a:ext cx="4824360" cy="3672000"/>
            <a:chOff x="4287960" y="1163520"/>
            <a:chExt cx="4824360" cy="3672000"/>
          </a:xfrm>
        </p:grpSpPr>
        <p:sp>
          <p:nvSpPr>
            <p:cNvPr id="246" name=""/>
            <p:cNvSpPr/>
            <p:nvPr/>
          </p:nvSpPr>
          <p:spPr>
            <a:xfrm>
              <a:off x="4582800" y="1341000"/>
              <a:ext cx="4152240" cy="1362960"/>
            </a:xfrm>
            <a:prstGeom prst="rect">
              <a:avLst/>
            </a:prstGeom>
            <a:gradFill rotWithShape="0">
              <a:gsLst>
                <a:gs pos="0">
                  <a:srgbClr val="bbe0e3">
                    <a:alpha val="60392"/>
                  </a:srgbClr>
                </a:gs>
                <a:gs pos="100000">
                  <a:srgbClr val="566768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RESULTADOS FINALÍSTICO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(CADERNO DE COMPROMISSOS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81360" y="2821680"/>
              <a:ext cx="2015280" cy="1006560"/>
            </a:xfrm>
            <a:prstGeom prst="rect">
              <a:avLst/>
            </a:prstGeom>
            <a:gradFill rotWithShape="0">
              <a:gsLst>
                <a:gs pos="0">
                  <a:srgbClr val="bbe0e3">
                    <a:alpha val="60392"/>
                  </a:srgbClr>
                </a:gs>
                <a:gs pos="100000">
                  <a:srgbClr val="566768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ROJETO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ESTRUTURADOR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719400" y="2821680"/>
              <a:ext cx="2015640" cy="1006560"/>
            </a:xfrm>
            <a:prstGeom prst="rect">
              <a:avLst/>
            </a:prstGeom>
            <a:gradFill rotWithShape="0">
              <a:gsLst>
                <a:gs pos="0">
                  <a:srgbClr val="bbe0e3">
                    <a:alpha val="60392"/>
                  </a:srgbClr>
                </a:gs>
                <a:gs pos="100000">
                  <a:srgbClr val="566768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AGENDA SETORIA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O CHOQU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E GESTÃ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81360" y="3947400"/>
              <a:ext cx="4153320" cy="710280"/>
            </a:xfrm>
            <a:prstGeom prst="rect">
              <a:avLst/>
            </a:prstGeom>
            <a:gradFill rotWithShape="0">
              <a:gsLst>
                <a:gs pos="0">
                  <a:srgbClr val="bbe0e3">
                    <a:alpha val="60392"/>
                  </a:srgbClr>
                </a:gs>
                <a:gs pos="100000">
                  <a:srgbClr val="566768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INDICADORES DE RACIONALIZAÇÃO DO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GASTO E MELHORIA DO DESEMPENH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287960" y="1163520"/>
              <a:ext cx="4824360" cy="3672000"/>
            </a:xfrm>
            <a:prstGeom prst="rect">
              <a:avLst/>
            </a:prstGeom>
            <a:noFill/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55600" y="1235160"/>
            <a:ext cx="3600360" cy="647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Segoe Semibold"/>
                <a:ea typeface="Arial"/>
              </a:rPr>
              <a:t>Cadernos de Desafios e Prior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36680" y="803160"/>
            <a:ext cx="31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Segoe Semibold"/>
                <a:ea typeface="Arial"/>
              </a:rPr>
              <a:t>Áreas de Resul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5600" y="2674800"/>
            <a:ext cx="3600360" cy="432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Segoe Semibold"/>
                <a:ea typeface="Arial"/>
              </a:rPr>
              <a:t>Cadernos Compromis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36800" y="224316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Segoe Semibold"/>
                <a:ea typeface="Arial"/>
              </a:rPr>
              <a:t>Secret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019160" y="346716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Segoe Semibold"/>
                <a:ea typeface="Arial"/>
              </a:rPr>
              <a:t>Secret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55600" y="3970440"/>
            <a:ext cx="3600360" cy="720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ACORDO DE RESULTA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ª et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16320" y="8031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ACORDO DE RESULTADOS - 1</a:t>
            </a:r>
            <a:r>
              <a:rPr b="1" lang="en-US" sz="1800" spc="-1" strike="noStrike">
                <a:solidFill>
                  <a:srgbClr val="cc0000"/>
                </a:solidFill>
                <a:latin typeface="Comic Sans MS"/>
                <a:ea typeface="Arial"/>
              </a:rPr>
              <a:t>ª et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11240" y="193680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11240" y="314172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6880" y="5070600"/>
            <a:ext cx="345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Segoe Semibold"/>
                <a:ea typeface="Arial"/>
              </a:rPr>
              <a:t>Unidades Administrativas e Instituições Vincul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6880" y="5843520"/>
            <a:ext cx="3600720" cy="720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ACORDO DE RESULTA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ª et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911240" y="476244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583160" y="6026040"/>
            <a:ext cx="4152960" cy="533520"/>
          </a:xfrm>
          <a:prstGeom prst="rect">
            <a:avLst/>
          </a:prstGeom>
          <a:gradFill rotWithShape="0">
            <a:gsLst>
              <a:gs pos="0">
                <a:srgbClr val="bbe0e3">
                  <a:alpha val="60392"/>
                </a:srgbClr>
              </a:gs>
              <a:gs pos="100000">
                <a:srgbClr val="566768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ESDOBRAMENTO DAS METAS ATÉ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 EQUIP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287960" y="5267160"/>
            <a:ext cx="4824360" cy="1368720"/>
          </a:xfrm>
          <a:prstGeom prst="rect">
            <a:avLst/>
          </a:prstGeom>
          <a:noFill/>
          <a:ln w="255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16320" y="488628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ACORDO DE RESULTADOS - 2</a:t>
            </a:r>
            <a:r>
              <a:rPr b="1" lang="en-US" sz="1800" spc="-1" strike="noStrike">
                <a:solidFill>
                  <a:srgbClr val="cc0000"/>
                </a:solidFill>
                <a:latin typeface="Comic Sans MS"/>
                <a:ea typeface="Arial"/>
              </a:rPr>
              <a:t>ª et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76680" y="5373720"/>
            <a:ext cx="4152960" cy="533520"/>
          </a:xfrm>
          <a:prstGeom prst="rect">
            <a:avLst/>
          </a:prstGeom>
          <a:gradFill rotWithShape="0">
            <a:gsLst>
              <a:gs pos="0">
                <a:srgbClr val="bbe0e3">
                  <a:alpha val="60392"/>
                </a:srgbClr>
              </a:gs>
              <a:gs pos="100000">
                <a:srgbClr val="566768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ORDO DE 1ª ETAP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33"/>
          <p:cNvGrpSpPr/>
          <p:nvPr/>
        </p:nvGrpSpPr>
        <p:grpSpPr>
          <a:xfrm>
            <a:off x="2411280" y="333360"/>
            <a:ext cx="5400360" cy="4607640"/>
            <a:chOff x="2411280" y="333360"/>
            <a:chExt cx="5400360" cy="4607640"/>
          </a:xfrm>
        </p:grpSpPr>
        <p:sp>
          <p:nvSpPr>
            <p:cNvPr id="268" name="Rectangle 10"/>
            <p:cNvSpPr/>
            <p:nvPr/>
          </p:nvSpPr>
          <p:spPr>
            <a:xfrm>
              <a:off x="2717640" y="893160"/>
              <a:ext cx="4383360" cy="1161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SULTADOS FINALÍSTIC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CADERNO DE COMPROMISSO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1"/>
            <p:cNvSpPr/>
            <p:nvPr/>
          </p:nvSpPr>
          <p:spPr>
            <a:xfrm>
              <a:off x="2736000" y="2197800"/>
              <a:ext cx="2100600" cy="939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JE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STRUTURADO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2"/>
            <p:cNvSpPr/>
            <p:nvPr/>
          </p:nvSpPr>
          <p:spPr>
            <a:xfrm>
              <a:off x="5002560" y="2197800"/>
              <a:ext cx="2098800" cy="939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GENDA SETOR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O CHO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 GEST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3"/>
            <p:cNvSpPr/>
            <p:nvPr/>
          </p:nvSpPr>
          <p:spPr>
            <a:xfrm>
              <a:off x="2715840" y="3280680"/>
              <a:ext cx="4385160" cy="537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DICADORES DE RACIONALIZAÇÃO D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AS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4"/>
            <p:cNvSpPr/>
            <p:nvPr/>
          </p:nvSpPr>
          <p:spPr>
            <a:xfrm>
              <a:off x="2481480" y="682560"/>
              <a:ext cx="4813560" cy="4258440"/>
            </a:xfrm>
            <a:prstGeom prst="rect">
              <a:avLst/>
            </a:prstGeom>
            <a:noFill/>
            <a:ln w="255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15"/>
            <p:cNvSpPr/>
            <p:nvPr/>
          </p:nvSpPr>
          <p:spPr>
            <a:xfrm>
              <a:off x="2411280" y="333360"/>
              <a:ext cx="540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Comic Sans MS"/>
                </a:rPr>
                <a:t>ACORDO DE RESULTADOS - 1</a:t>
              </a:r>
              <a:r>
                <a:rPr b="1" lang="en-US" sz="1600" spc="-1" strike="noStrike">
                  <a:solidFill>
                    <a:srgbClr val="cc0000"/>
                  </a:solidFill>
                  <a:latin typeface="Comic Sans MS"/>
                  <a:ea typeface="Arial"/>
                </a:rPr>
                <a:t>ª etap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6"/>
            <p:cNvSpPr/>
            <p:nvPr/>
          </p:nvSpPr>
          <p:spPr>
            <a:xfrm>
              <a:off x="2730240" y="3931200"/>
              <a:ext cx="4349160" cy="793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DICADORES DE MELHORIA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O DESEMPENHO </a:t>
              </a:r>
              <a:br>
                <a:rPr sz="14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casos pontuais, ex. IPSEMG, AUGE, SEF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AutoShape 31"/>
          <p:cNvSpPr/>
          <p:nvPr/>
        </p:nvSpPr>
        <p:spPr>
          <a:xfrm>
            <a:off x="468360" y="3295800"/>
            <a:ext cx="21600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31"/>
          <p:cNvSpPr/>
          <p:nvPr/>
        </p:nvSpPr>
        <p:spPr>
          <a:xfrm>
            <a:off x="1116000" y="3295800"/>
            <a:ext cx="21600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31"/>
          <p:cNvSpPr/>
          <p:nvPr/>
        </p:nvSpPr>
        <p:spPr>
          <a:xfrm>
            <a:off x="1836720" y="3295800"/>
            <a:ext cx="21600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31"/>
          <p:cNvSpPr/>
          <p:nvPr/>
        </p:nvSpPr>
        <p:spPr>
          <a:xfrm>
            <a:off x="2556000" y="3295800"/>
            <a:ext cx="21564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15"/>
          <p:cNvGrpSpPr/>
          <p:nvPr/>
        </p:nvGrpSpPr>
        <p:grpSpPr>
          <a:xfrm>
            <a:off x="-108000" y="3500280"/>
            <a:ext cx="4175280" cy="3286080"/>
            <a:chOff x="-108000" y="3500280"/>
            <a:chExt cx="4175280" cy="3286080"/>
          </a:xfrm>
        </p:grpSpPr>
        <p:sp>
          <p:nvSpPr>
            <p:cNvPr id="280" name="Rectangle 20"/>
            <p:cNvSpPr/>
            <p:nvPr/>
          </p:nvSpPr>
          <p:spPr>
            <a:xfrm>
              <a:off x="108000" y="3684960"/>
              <a:ext cx="3672000" cy="3101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21"/>
            <p:cNvSpPr/>
            <p:nvPr/>
          </p:nvSpPr>
          <p:spPr>
            <a:xfrm>
              <a:off x="-71280" y="4281480"/>
              <a:ext cx="406692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MAPA ESTRATÉGICO DO ÓRGÃO</a:t>
              </a:r>
              <a:br>
                <a:rPr sz="1400"/>
              </a:b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(elaborado com base no Caderno de Compromisso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22"/>
            <p:cNvSpPr/>
            <p:nvPr/>
          </p:nvSpPr>
          <p:spPr>
            <a:xfrm>
              <a:off x="-108000" y="3780000"/>
              <a:ext cx="40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OBJETIVOS ESTRATÉGICOS DO ÓRGÃ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25"/>
            <p:cNvSpPr/>
            <p:nvPr/>
          </p:nvSpPr>
          <p:spPr>
            <a:xfrm>
              <a:off x="-108000" y="5510520"/>
              <a:ext cx="4067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INDICADORES DE DESEMPENHO PARA </a:t>
              </a:r>
              <a:br>
                <a:rPr sz="1400"/>
              </a:b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A MENSURAÇÃO DE CADA OBJETIVO ESTRATÉGICO DESDOBR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32"/>
            <p:cNvSpPr/>
            <p:nvPr/>
          </p:nvSpPr>
          <p:spPr>
            <a:xfrm>
              <a:off x="-108000" y="5011920"/>
              <a:ext cx="40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MAPA ESTRATÉGICO DESDOBRAD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35"/>
            <p:cNvSpPr/>
            <p:nvPr/>
          </p:nvSpPr>
          <p:spPr>
            <a:xfrm>
              <a:off x="0" y="6418080"/>
              <a:ext cx="40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METAS DESDOBRAD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15"/>
            <p:cNvSpPr/>
            <p:nvPr/>
          </p:nvSpPr>
          <p:spPr>
            <a:xfrm>
              <a:off x="0" y="3500280"/>
              <a:ext cx="39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Comic Sans MS"/>
                </a:rPr>
                <a:t>PROCESSO DE DESDOBRAM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23"/>
          <p:cNvGrpSpPr/>
          <p:nvPr/>
        </p:nvGrpSpPr>
        <p:grpSpPr>
          <a:xfrm>
            <a:off x="4067280" y="-27000"/>
            <a:ext cx="4752360" cy="824040"/>
            <a:chOff x="4067280" y="-27000"/>
            <a:chExt cx="4752360" cy="824040"/>
          </a:xfrm>
        </p:grpSpPr>
        <p:sp>
          <p:nvSpPr>
            <p:cNvPr id="288" name="AutoShape 18"/>
            <p:cNvSpPr/>
            <p:nvPr/>
          </p:nvSpPr>
          <p:spPr>
            <a:xfrm>
              <a:off x="4067280" y="322200"/>
              <a:ext cx="720360" cy="358920"/>
            </a:xfrm>
            <a:prstGeom prst="rightArrow">
              <a:avLst>
                <a:gd name="adj1" fmla="val 50000"/>
                <a:gd name="adj2" fmla="val 50176"/>
              </a:avLst>
            </a:prstGeom>
            <a:solidFill>
              <a:srgbClr val="92d050"/>
            </a:solidFill>
            <a:ln w="9360">
              <a:solidFill>
                <a:srgbClr val="595959"/>
              </a:solidFill>
              <a:miter/>
            </a:ln>
            <a:effectLst>
              <a:outerShdw dist="50760" dir="54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19"/>
            <p:cNvSpPr/>
            <p:nvPr/>
          </p:nvSpPr>
          <p:spPr>
            <a:xfrm>
              <a:off x="4679640" y="-27000"/>
              <a:ext cx="4140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Qual a participação/responsabilidade de cada equipe de trabalho no cumprimento dos resultados já pactuados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26"/>
          <p:cNvGrpSpPr/>
          <p:nvPr/>
        </p:nvGrpSpPr>
        <p:grpSpPr>
          <a:xfrm>
            <a:off x="3778200" y="1214280"/>
            <a:ext cx="1873440" cy="1390320"/>
            <a:chOff x="3778200" y="1214280"/>
            <a:chExt cx="1873440" cy="1390320"/>
          </a:xfrm>
        </p:grpSpPr>
        <p:sp>
          <p:nvSpPr>
            <p:cNvPr id="291" name="AutoShape 39"/>
            <p:cNvSpPr/>
            <p:nvPr/>
          </p:nvSpPr>
          <p:spPr>
            <a:xfrm>
              <a:off x="4275000" y="1214280"/>
              <a:ext cx="720720" cy="1374840"/>
            </a:xfrm>
            <a:prstGeom prst="downArrow">
              <a:avLst>
                <a:gd name="adj1" fmla="val 50000"/>
                <a:gd name="adj2" fmla="val 3998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43"/>
            <p:cNvSpPr/>
            <p:nvPr/>
          </p:nvSpPr>
          <p:spPr>
            <a:xfrm>
              <a:off x="3778200" y="1231920"/>
              <a:ext cx="1873440" cy="1372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040"/>
                  </a:solidFill>
                  <a:latin typeface="Arial"/>
                </a:rPr>
                <a:t>marcos e metas </a:t>
              </a:r>
              <a:br>
                <a:rPr sz="1400"/>
              </a:br>
              <a:r>
                <a:rPr b="1" lang="pt-BR" sz="1400" spc="-1" strike="noStrike">
                  <a:solidFill>
                    <a:srgbClr val="404040"/>
                  </a:solidFill>
                  <a:latin typeface="Arial"/>
                </a:rPr>
                <a:t>do Projeto Estruturador </a:t>
              </a:r>
              <a:br>
                <a:rPr sz="1400"/>
              </a:br>
              <a:r>
                <a:rPr b="1" lang="pt-BR" sz="1400" spc="-1" strike="noStrike">
                  <a:solidFill>
                    <a:srgbClr val="404040"/>
                  </a:solidFill>
                  <a:latin typeface="Arial"/>
                </a:rPr>
                <a:t>de responsabilidade</a:t>
              </a:r>
              <a:br>
                <a:rPr sz="1400"/>
              </a:br>
              <a:r>
                <a:rPr b="1" lang="pt-BR" sz="1400" spc="-1" strike="noStrike">
                  <a:solidFill>
                    <a:srgbClr val="404040"/>
                  </a:solidFill>
                  <a:latin typeface="Arial"/>
                </a:rPr>
                <a:t>da equip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29"/>
          <p:cNvGrpSpPr/>
          <p:nvPr/>
        </p:nvGrpSpPr>
        <p:grpSpPr>
          <a:xfrm>
            <a:off x="5651640" y="1211400"/>
            <a:ext cx="1873080" cy="1374480"/>
            <a:chOff x="5651640" y="1211400"/>
            <a:chExt cx="1873080" cy="1374480"/>
          </a:xfrm>
        </p:grpSpPr>
        <p:sp>
          <p:nvSpPr>
            <p:cNvPr id="294" name="AutoShape 39"/>
            <p:cNvSpPr/>
            <p:nvPr/>
          </p:nvSpPr>
          <p:spPr>
            <a:xfrm>
              <a:off x="6161040" y="1211400"/>
              <a:ext cx="720720" cy="1374480"/>
            </a:xfrm>
            <a:prstGeom prst="downArrow">
              <a:avLst>
                <a:gd name="adj1" fmla="val 50000"/>
                <a:gd name="adj2" fmla="val 39969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43"/>
            <p:cNvSpPr/>
            <p:nvPr/>
          </p:nvSpPr>
          <p:spPr>
            <a:xfrm>
              <a:off x="5651640" y="1274760"/>
              <a:ext cx="1873080" cy="946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040"/>
                  </a:solidFill>
                  <a:latin typeface="Arial"/>
                </a:rPr>
                <a:t>indicadores finalísticos </a:t>
              </a:r>
              <a:br>
                <a:rPr sz="1400"/>
              </a:br>
              <a:r>
                <a:rPr b="1" lang="pt-BR" sz="1400" spc="-1" strike="noStrike">
                  <a:solidFill>
                    <a:srgbClr val="404040"/>
                  </a:solidFill>
                  <a:latin typeface="Arial"/>
                </a:rPr>
                <a:t>por equipe, qdo possíve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32"/>
          <p:cNvGrpSpPr/>
          <p:nvPr/>
        </p:nvGrpSpPr>
        <p:grpSpPr>
          <a:xfrm>
            <a:off x="7308720" y="1214280"/>
            <a:ext cx="1873440" cy="1374840"/>
            <a:chOff x="7308720" y="1214280"/>
            <a:chExt cx="1873440" cy="1374840"/>
          </a:xfrm>
        </p:grpSpPr>
        <p:sp>
          <p:nvSpPr>
            <p:cNvPr id="297" name="AutoShape 39"/>
            <p:cNvSpPr/>
            <p:nvPr/>
          </p:nvSpPr>
          <p:spPr>
            <a:xfrm>
              <a:off x="7808760" y="1214280"/>
              <a:ext cx="720720" cy="1374840"/>
            </a:xfrm>
            <a:prstGeom prst="downArrow">
              <a:avLst>
                <a:gd name="adj1" fmla="val 50000"/>
                <a:gd name="adj2" fmla="val 3998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43"/>
            <p:cNvSpPr/>
            <p:nvPr/>
          </p:nvSpPr>
          <p:spPr>
            <a:xfrm>
              <a:off x="7308720" y="1285920"/>
              <a:ext cx="1873440" cy="946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040"/>
                  </a:solidFill>
                  <a:latin typeface="Arial"/>
                </a:rPr>
                <a:t>parcela de responsabilidade da equipe na Agenda Setor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35"/>
          <p:cNvGrpSpPr/>
          <p:nvPr/>
        </p:nvGrpSpPr>
        <p:grpSpPr>
          <a:xfrm>
            <a:off x="4119480" y="5661000"/>
            <a:ext cx="4711680" cy="1067400"/>
            <a:chOff x="4119480" y="5661000"/>
            <a:chExt cx="4711680" cy="1067400"/>
          </a:xfrm>
        </p:grpSpPr>
        <p:sp>
          <p:nvSpPr>
            <p:cNvPr id="300" name="Text Box 19"/>
            <p:cNvSpPr/>
            <p:nvPr/>
          </p:nvSpPr>
          <p:spPr>
            <a:xfrm>
              <a:off x="4690800" y="5661000"/>
              <a:ext cx="41403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Qual a participação/responsabilidade de cada equipe de trabalho na viabilização da estratégia expressa no Mapa Estratégico do órgão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AutoShape 18"/>
            <p:cNvSpPr/>
            <p:nvPr/>
          </p:nvSpPr>
          <p:spPr>
            <a:xfrm>
              <a:off x="4119480" y="6089400"/>
              <a:ext cx="720720" cy="358920"/>
            </a:xfrm>
            <a:prstGeom prst="rightArrow">
              <a:avLst>
                <a:gd name="adj1" fmla="val 50000"/>
                <a:gd name="adj2" fmla="val 50201"/>
              </a:avLst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38"/>
          <p:cNvGrpSpPr/>
          <p:nvPr/>
        </p:nvGrpSpPr>
        <p:grpSpPr>
          <a:xfrm>
            <a:off x="4300560" y="4071600"/>
            <a:ext cx="2071800" cy="1445760"/>
            <a:chOff x="4300560" y="4071600"/>
            <a:chExt cx="2071800" cy="1445760"/>
          </a:xfrm>
        </p:grpSpPr>
        <p:sp>
          <p:nvSpPr>
            <p:cNvPr id="303" name="AutoShape 39"/>
            <p:cNvSpPr/>
            <p:nvPr/>
          </p:nvSpPr>
          <p:spPr>
            <a:xfrm rot="10800000">
              <a:off x="4943520" y="4071600"/>
              <a:ext cx="720720" cy="1374840"/>
            </a:xfrm>
            <a:prstGeom prst="downArrow">
              <a:avLst>
                <a:gd name="adj1" fmla="val 50000"/>
                <a:gd name="adj2" fmla="val 3998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62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43"/>
            <p:cNvSpPr/>
            <p:nvPr/>
          </p:nvSpPr>
          <p:spPr>
            <a:xfrm>
              <a:off x="4300560" y="4357800"/>
              <a:ext cx="2071800" cy="1159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040"/>
                  </a:solidFill>
                  <a:latin typeface="Arial"/>
                </a:rPr>
                <a:t>metas elaboradas a partir dos indicadores referenciados nos objetivos estratégicos do órg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41"/>
          <p:cNvGrpSpPr/>
          <p:nvPr/>
        </p:nvGrpSpPr>
        <p:grpSpPr>
          <a:xfrm>
            <a:off x="6649920" y="4065120"/>
            <a:ext cx="2286000" cy="1374840"/>
            <a:chOff x="6649920" y="4065120"/>
            <a:chExt cx="2286000" cy="1374840"/>
          </a:xfrm>
        </p:grpSpPr>
        <p:sp>
          <p:nvSpPr>
            <p:cNvPr id="306" name="AutoShape 39"/>
            <p:cNvSpPr/>
            <p:nvPr/>
          </p:nvSpPr>
          <p:spPr>
            <a:xfrm rot="10800000">
              <a:off x="7507440" y="4065120"/>
              <a:ext cx="720720" cy="1374840"/>
            </a:xfrm>
            <a:prstGeom prst="downArrow">
              <a:avLst>
                <a:gd name="adj1" fmla="val 50000"/>
                <a:gd name="adj2" fmla="val 3998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62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6649920" y="4279680"/>
              <a:ext cx="2286000" cy="1159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404040"/>
                  </a:solidFill>
                  <a:latin typeface="Arial"/>
                </a:rPr>
                <a:t>projetos/ações prioritárias identificadas para o cumprimento dos objetivos estratégicos do órgã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 Box 38"/>
          <p:cNvSpPr/>
          <p:nvPr/>
        </p:nvSpPr>
        <p:spPr>
          <a:xfrm>
            <a:off x="4211640" y="2813040"/>
            <a:ext cx="471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Arial"/>
              </a:rPr>
              <a:t>CONJUNTO DE COMPROMISSOS A SER PACTUADO COM CADA EQUIPE NA</a:t>
            </a:r>
            <a:br>
              <a:rPr sz="1800"/>
            </a:br>
            <a:r>
              <a:rPr b="1" lang="pt-BR" sz="1800" spc="-1" strike="noStrike">
                <a:solidFill>
                  <a:srgbClr val="cc0000"/>
                </a:solidFill>
                <a:latin typeface="Arial"/>
              </a:rPr>
              <a:t>2ª. ETAPA DO ACORDO DE RESULTA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500" fill="hold"/>
                                        <p:tgtEl>
                                          <p:spTgt spid="267"/>
                                        </p:tgtEl>
                                      </p:cBhvr>
                                      <p:to x="75000" y="75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35 0.0638 L -0.31893 -0.12575 E">
                                      <p:cBhvr>
                                        <p:cTn id="66" dur="5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8T18:10:05Z</dcterms:created>
  <dc:creator>Semad</dc:creator>
  <dc:description/>
  <dc:language>en-US</dc:language>
  <cp:lastModifiedBy>teste</cp:lastModifiedBy>
  <dcterms:modified xsi:type="dcterms:W3CDTF">2008-02-18T13:16:25Z</dcterms:modified>
  <cp:revision>524</cp:revision>
  <dc:subject/>
  <dc:title>noções de direito</dc:title>
</cp:coreProperties>
</file>